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73B-3BB3-403E-B524-F9D2FEEC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F30-345B-4A87-B216-57F0EF35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3E5D-8277-4C34-9B86-1C753F27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238A-312E-47E0-ADAA-22B9BA66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FC6-6434-4EAB-8990-54317A94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6CD-FC57-423E-9681-96D14451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ECE-3207-44AE-9172-C496B425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E98-99B4-4C0E-A35A-FC20834B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1B2-5ADE-443F-8551-6DECD7DE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59C-78E8-44C9-96C5-B2170E02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350-0AAC-461C-8B16-0F25914A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5459-62C0-44B8-AB0A-24A5117B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83B4-C723-40B8-B76D-5BA15CC62C30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étszintű érettségi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gy Ann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08000" y="115920"/>
            <a:ext cx="1439640" cy="1079640"/>
            <a:chOff x="108000" y="115920"/>
            <a:chExt cx="1439640" cy="1079640"/>
          </a:xfrm>
        </p:grpSpPr>
        <p:sp>
          <p:nvSpPr>
            <p:cNvPr id="44" name=""/>
            <p:cNvSpPr/>
            <p:nvPr/>
          </p:nvSpPr>
          <p:spPr>
            <a:xfrm>
              <a:off x="108000" y="262800"/>
              <a:ext cx="1439640" cy="638280"/>
            </a:xfrm>
            <a:custGeom>
              <a:avLst/>
              <a:gdLst/>
              <a:ahLst/>
              <a:rect l="l" t="t" r="r" b="b"/>
              <a:pathLst>
                <a:path w="1180" h="590">
                  <a:moveTo>
                    <a:pt x="0" y="590"/>
                  </a:moveTo>
                  <a:lnTo>
                    <a:pt x="1180" y="590"/>
                  </a:lnTo>
                  <a:lnTo>
                    <a:pt x="1180" y="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9760" y="115920"/>
              <a:ext cx="1162800" cy="1079640"/>
            </a:xfrm>
            <a:custGeom>
              <a:avLst/>
              <a:gdLst>
                <a:gd name="textAreaLeft" fmla="*/ 479160 w 1162800"/>
                <a:gd name="textAreaRight" fmla="*/ 683640 w 1162800"/>
                <a:gd name="textAreaTop" fmla="*/ 444960 h 1079640"/>
                <a:gd name="textAreaBottom" fmla="*/ 6346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z új rendszer jellemzői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Közép- és emelt szintű megméretteté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gységesített érettségi </a:t>
            </a:r>
            <a:br>
              <a:rPr sz="2400"/>
            </a:b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és felvételi rendszer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melt szintű érettségi központok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16 ezer jelentkező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Előrehozott vizsga lehetősé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z informatika először szerepel a tárgyak közöt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30720" y="1484280"/>
            <a:ext cx="3073320" cy="4897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108000" y="115920"/>
            <a:ext cx="1439640" cy="1079640"/>
            <a:chOff x="108000" y="115920"/>
            <a:chExt cx="1439640" cy="1079640"/>
          </a:xfrm>
        </p:grpSpPr>
        <p:sp>
          <p:nvSpPr>
            <p:cNvPr id="50" name=""/>
            <p:cNvSpPr/>
            <p:nvPr/>
          </p:nvSpPr>
          <p:spPr>
            <a:xfrm>
              <a:off x="108000" y="262800"/>
              <a:ext cx="1439640" cy="638280"/>
            </a:xfrm>
            <a:custGeom>
              <a:avLst/>
              <a:gdLst/>
              <a:ahLst/>
              <a:rect l="l" t="t" r="r" b="b"/>
              <a:pathLst>
                <a:path w="1180" h="590">
                  <a:moveTo>
                    <a:pt x="0" y="590"/>
                  </a:moveTo>
                  <a:lnTo>
                    <a:pt x="1180" y="590"/>
                  </a:lnTo>
                  <a:lnTo>
                    <a:pt x="1180" y="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9760" y="115920"/>
              <a:ext cx="1162800" cy="1079640"/>
            </a:xfrm>
            <a:custGeom>
              <a:avLst/>
              <a:gdLst>
                <a:gd name="textAreaLeft" fmla="*/ 479160 w 1162800"/>
                <a:gd name="textAreaRight" fmla="*/ 683640 w 1162800"/>
                <a:gd name="textAreaTop" fmla="*/ 444960 h 1079640"/>
                <a:gd name="textAreaBottom" fmla="*/ 6346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1830240"/>
          <a:ext cx="9299520" cy="459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0240"/>
                    <a:ext cx="929952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108000" y="115920"/>
            <a:ext cx="1439640" cy="1079640"/>
            <a:chOff x="108000" y="115920"/>
            <a:chExt cx="1439640" cy="1079640"/>
          </a:xfrm>
        </p:grpSpPr>
        <p:sp>
          <p:nvSpPr>
            <p:cNvPr id="55" name=""/>
            <p:cNvSpPr/>
            <p:nvPr/>
          </p:nvSpPr>
          <p:spPr>
            <a:xfrm>
              <a:off x="108000" y="262800"/>
              <a:ext cx="1439640" cy="638280"/>
            </a:xfrm>
            <a:custGeom>
              <a:avLst/>
              <a:gdLst/>
              <a:ahLst/>
              <a:rect l="l" t="t" r="r" b="b"/>
              <a:pathLst>
                <a:path w="1180" h="590">
                  <a:moveTo>
                    <a:pt x="0" y="590"/>
                  </a:moveTo>
                  <a:lnTo>
                    <a:pt x="1180" y="590"/>
                  </a:lnTo>
                  <a:lnTo>
                    <a:pt x="1180" y="0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9760" y="115920"/>
              <a:ext cx="1162800" cy="1079640"/>
            </a:xfrm>
            <a:custGeom>
              <a:avLst/>
              <a:gdLst>
                <a:gd name="textAreaLeft" fmla="*/ 479160 w 1162800"/>
                <a:gd name="textAreaRight" fmla="*/ 683640 w 1162800"/>
                <a:gd name="textAreaTop" fmla="*/ 444960 h 1079640"/>
                <a:gd name="textAreaBottom" fmla="*/ 6346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z első 5 érettségi létszámai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21:55:07Z</dcterms:created>
  <dc:creator>Rozgonyi-Borus Ferenc</dc:creator>
  <dc:description/>
  <dc:language>en-US</dc:language>
  <cp:lastModifiedBy>Rozgonyi-Borus Ferenc</cp:lastModifiedBy>
  <dcterms:modified xsi:type="dcterms:W3CDTF">2005-05-18T07:38:40Z</dcterms:modified>
  <cp:revision>13</cp:revision>
  <dc:subject/>
  <dc:title>Érettségi jelentkezések</dc:title>
</cp:coreProperties>
</file>