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726-6D5A-4021-93E6-77FE1B34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D81-D2C3-4DAE-8778-EA2031FB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3CD-E62C-4A9C-8479-190D2CD5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601-EA91-4A61-9911-4C54F685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B2F-2F84-441D-8E2A-1D85F3F9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6A4-0AEC-4329-B156-208B33DB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619-22E5-4816-8613-D5D6DAC4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E94-2843-45D0-9B64-F5EBE21E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95B-7A3F-4802-9003-4087E784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FBF-FB3E-4EA9-AD48-D86ECADC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587-22D7-4D2C-B20E-22EA6909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AC7-69F7-4121-BF79-4DF14066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a3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0392-152C-4536-8CA8-C1A99A88A2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a3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Érzékelés, észlelé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a3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terális gátlás Hermann rá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4160" y="1758960"/>
            <a:ext cx="4494240" cy="333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1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ámolja meg, hány fekete pontot lát a ké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a3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ing vonala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ét piros vonal görbe vagy egyen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5000" y="2009880"/>
            <a:ext cx="4732200" cy="2838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a3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gura és háttér Rubin ser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ét emberi arc vagy egy serle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79640" y="2206800"/>
            <a:ext cx="5184360" cy="2447280"/>
            <a:chOff x="1979640" y="2206800"/>
            <a:chExt cx="5184360" cy="24472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979640" y="2206800"/>
              <a:ext cx="2473560" cy="24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4690080" y="2206800"/>
              <a:ext cx="2473920" cy="244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22:09:39Z</dcterms:created>
  <dc:creator/>
  <dc:description/>
  <dc:language>en-US</dc:language>
  <cp:lastModifiedBy>OKÉV</cp:lastModifiedBy>
  <dcterms:modified xsi:type="dcterms:W3CDTF">2008-05-28T12:35:51Z</dcterms:modified>
  <cp:revision>11</cp:revision>
  <dc:subject/>
  <dc:title>Érzékelés, észlelés</dc:title>
</cp:coreProperties>
</file>