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229-ABC1-496B-BE43-0ED73C6A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8AC-13C0-4C47-A552-1BF33FD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138-3BD2-4D00-80C5-286CC755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357-4DB6-4A9F-90F6-2291A7BD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7AC-72CA-4A72-8C31-8BAA46AE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20B-2C71-4723-A551-6DAF3887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B26-AAEF-4D91-8358-EE132F61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C28-AF62-4052-89EE-35BE91D4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DED-789E-42B6-B1CA-4B5C6BEA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894-FD41-4A3F-8F13-4D704113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AA5-29AC-4FE0-B9DC-BCD9340A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779-C310-49FE-9620-687DFE7A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f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69A6-61B5-476C-8235-0AE0161C607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f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vasútfejlesztés fényk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X. század második f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f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9440" y="31680"/>
            <a:ext cx="9362880" cy="6800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47600" y="81000"/>
            <a:ext cx="9362880" cy="6800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-301680" y="-142920"/>
            <a:ext cx="9363240" cy="6800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298440" y="-74520"/>
            <a:ext cx="9363240" cy="6800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50–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f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09440" y="31680"/>
            <a:ext cx="9362880" cy="6800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204840" y="104760"/>
            <a:ext cx="9410760" cy="683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50–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09:34:09Z</dcterms:created>
  <dc:creator>OKÉV</dc:creator>
  <dc:description/>
  <dc:language>en-US</dc:language>
  <cp:lastModifiedBy>OKÉV</cp:lastModifiedBy>
  <dcterms:modified xsi:type="dcterms:W3CDTF">2006-05-20T09:55:54Z</dcterms:modified>
  <cp:revision>9</cp:revision>
  <dc:subject/>
  <dc:title>A vasútfejlesztés fénykora</dc:title>
</cp:coreProperties>
</file>