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9C9-D9D4-493D-885D-40CF1C90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A39-1765-4C44-80ED-F219252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2AA-495E-445E-9912-9280B1AA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FC2-7F00-49C5-AE11-88E37D40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699-004D-42D4-928A-48206666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B8F-3979-4FE1-AD46-8D02D524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F6A-E9D9-4A31-BA84-FB57E6AA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38A8-C95F-443D-B956-C184FC78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87A-25E1-455D-B3B6-E8426C6C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CA5-5C63-4121-8FF4-2B10C55E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616-9D3D-4A91-9188-FB35C4D8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E7F-EF41-4D97-809A-AD8777CE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9A2B-342F-488D-8B77-ACE8B21B3A96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ávbeszélő fővonal 1000 lakos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54920" y="2344680"/>
            <a:ext cx="2089080" cy="2168280"/>
            <a:chOff x="7054920" y="2344680"/>
            <a:chExt cx="2089080" cy="2168280"/>
          </a:xfrm>
        </p:grpSpPr>
        <p:grpSp>
          <p:nvGrpSpPr>
            <p:cNvPr id="43" name=""/>
            <p:cNvGrpSpPr/>
            <p:nvPr/>
          </p:nvGrpSpPr>
          <p:grpSpPr>
            <a:xfrm>
              <a:off x="7054920" y="2344680"/>
              <a:ext cx="2089080" cy="368280"/>
              <a:chOff x="7054920" y="2344680"/>
              <a:chExt cx="2089080" cy="368280"/>
            </a:xfrm>
          </p:grpSpPr>
          <p:sp>
            <p:nvSpPr>
              <p:cNvPr id="44" name=""/>
              <p:cNvSpPr/>
              <p:nvPr/>
            </p:nvSpPr>
            <p:spPr>
              <a:xfrm>
                <a:off x="7054920" y="2417400"/>
                <a:ext cx="287280" cy="215640"/>
              </a:xfrm>
              <a:prstGeom prst="rect">
                <a:avLst/>
              </a:prstGeom>
              <a:solidFill>
                <a:srgbClr val="cffa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415280" y="234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7054920" y="2704680"/>
              <a:ext cx="2089080" cy="368280"/>
              <a:chOff x="7054920" y="2704680"/>
              <a:chExt cx="2089080" cy="368280"/>
            </a:xfrm>
          </p:grpSpPr>
          <p:sp>
            <p:nvSpPr>
              <p:cNvPr id="47" name=""/>
              <p:cNvSpPr/>
              <p:nvPr/>
            </p:nvSpPr>
            <p:spPr>
              <a:xfrm>
                <a:off x="7054920" y="2777400"/>
                <a:ext cx="287280" cy="215640"/>
              </a:xfrm>
              <a:prstGeom prst="rect">
                <a:avLst/>
              </a:prstGeom>
              <a:solidFill>
                <a:srgbClr val="a9e4a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415280" y="270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1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7054920" y="3063600"/>
              <a:ext cx="2089080" cy="368280"/>
              <a:chOff x="7054920" y="3063600"/>
              <a:chExt cx="2089080" cy="368280"/>
            </a:xfrm>
          </p:grpSpPr>
          <p:sp>
            <p:nvSpPr>
              <p:cNvPr id="50" name=""/>
              <p:cNvSpPr/>
              <p:nvPr/>
            </p:nvSpPr>
            <p:spPr>
              <a:xfrm>
                <a:off x="7054920" y="3136320"/>
                <a:ext cx="287280" cy="215640"/>
              </a:xfrm>
              <a:prstGeom prst="rect">
                <a:avLst/>
              </a:prstGeom>
              <a:solidFill>
                <a:srgbClr val="78c47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415280" y="30636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8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054920" y="3417480"/>
              <a:ext cx="2089080" cy="368280"/>
              <a:chOff x="7054920" y="3417480"/>
              <a:chExt cx="2089080" cy="368280"/>
            </a:xfrm>
          </p:grpSpPr>
          <p:sp>
            <p:nvSpPr>
              <p:cNvPr id="53" name=""/>
              <p:cNvSpPr/>
              <p:nvPr/>
            </p:nvSpPr>
            <p:spPr>
              <a:xfrm>
                <a:off x="7054920" y="3490200"/>
                <a:ext cx="287280" cy="215640"/>
              </a:xfrm>
              <a:prstGeom prst="rect">
                <a:avLst/>
              </a:prstGeom>
              <a:solidFill>
                <a:srgbClr val="51a45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415280" y="34174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5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054920" y="3784320"/>
              <a:ext cx="2089080" cy="368280"/>
              <a:chOff x="7054920" y="3784320"/>
              <a:chExt cx="2089080" cy="368280"/>
            </a:xfrm>
          </p:grpSpPr>
          <p:sp>
            <p:nvSpPr>
              <p:cNvPr id="56" name=""/>
              <p:cNvSpPr/>
              <p:nvPr/>
            </p:nvSpPr>
            <p:spPr>
              <a:xfrm>
                <a:off x="7054920" y="3857040"/>
                <a:ext cx="287280" cy="215640"/>
              </a:xfrm>
              <a:prstGeom prst="rect">
                <a:avLst/>
              </a:prstGeom>
              <a:solidFill>
                <a:srgbClr val="2a842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15280" y="378432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2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054920" y="4144680"/>
              <a:ext cx="2089080" cy="368280"/>
              <a:chOff x="7054920" y="4144680"/>
              <a:chExt cx="2089080" cy="368280"/>
            </a:xfrm>
          </p:grpSpPr>
          <p:sp>
            <p:nvSpPr>
              <p:cNvPr id="59" name=""/>
              <p:cNvSpPr/>
              <p:nvPr/>
            </p:nvSpPr>
            <p:spPr>
              <a:xfrm>
                <a:off x="7054920" y="4217400"/>
                <a:ext cx="287280" cy="215640"/>
              </a:xfrm>
              <a:prstGeom prst="rect">
                <a:avLst/>
              </a:prstGeom>
              <a:solidFill>
                <a:srgbClr val="04640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415280" y="414468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173160"/>
                    <a:tab algn="l" pos="630360"/>
                    <a:tab algn="l" pos="803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9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6772320" cy="42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rás: http://www.ksh.hu</a:t>
            </a:r>
          </a:p>
        </p:txBody>
      </p:sp>
    </p:spTree>
  </p:cSld>
  <p:transition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55720" y="1089000"/>
            <a:ext cx="7431120" cy="4678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52480" y="1092240"/>
            <a:ext cx="7439040" cy="46735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egyénként, régiónké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rás: http://www.ksh.hu</a:t>
            </a:r>
          </a:p>
        </p:txBody>
      </p:sp>
    </p:spTree>
  </p:cSld>
  <p:transition advTm="5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7:50:29Z</dcterms:created>
  <dc:creator>OKÉV</dc:creator>
  <dc:description/>
  <dc:language>en-US</dc:language>
  <cp:lastModifiedBy>OKÉV</cp:lastModifiedBy>
  <dcterms:modified xsi:type="dcterms:W3CDTF">2005-12-26T03:58:08Z</dcterms:modified>
  <cp:revision>6</cp:revision>
  <dc:subject/>
  <dc:title>1. dia</dc:title>
</cp:coreProperties>
</file>