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039-330D-440B-A76F-05A5229B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542-9EDC-4D2F-85EA-8F9A5A62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B56-1DC6-46C5-8550-A4EBD22E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603-0DDC-48D2-B6E5-7ABC5764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CF4-0293-4286-9E3E-EC71CAE3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89A-6197-484C-A4F5-5A2E15EC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24F-8768-4203-B8EE-2B88D915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652-4893-4598-9542-DDD14AB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389-B443-4C17-8D93-1C313FA0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BE2-EDD6-4140-B8CB-24BC193A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B32-ED8C-4507-953C-3D4DA00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B43-5682-48C2-8595-58D1E59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a9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a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a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a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a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a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a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a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a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a9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a9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a9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a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F4C4-A686-4F78-96E2-69059372C41D}" type="slidenum">
              <a:rPr b="0" lang="hu-HU" sz="1400" spc="-1" strike="noStrike">
                <a:solidFill>
                  <a:srgbClr val="000a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a96"/>
                </a:solidFill>
                <a:latin typeface="Arial"/>
              </a:rPr>
              <a:t>Nagy, nagyobb, legnagyobb</a:t>
            </a:r>
            <a:endParaRPr b="0" lang="en-US" sz="60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a96"/>
                </a:solidFill>
                <a:latin typeface="Arial"/>
              </a:rPr>
              <a:t>A kis fehér négyzet nagyobb, mint a fekete?</a:t>
            </a:r>
            <a:endParaRPr b="0" lang="en-US" sz="4000" spc="-1" strike="noStrike">
              <a:solidFill>
                <a:srgbClr val="000a96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a96"/>
                </a:solidFill>
                <a:latin typeface="Arial"/>
              </a:rPr>
              <a:t>Igen? Nem?</a:t>
            </a:r>
            <a:endParaRPr b="0" lang="en-US" sz="4000" spc="-1" strike="noStrike">
              <a:solidFill>
                <a:srgbClr val="000a96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42920" y="2133720"/>
            <a:ext cx="2592360" cy="1296720"/>
            <a:chOff x="1042920" y="2133720"/>
            <a:chExt cx="2592360" cy="1296720"/>
          </a:xfrm>
        </p:grpSpPr>
        <p:sp>
          <p:nvSpPr>
            <p:cNvPr id="47" name=""/>
            <p:cNvSpPr/>
            <p:nvPr/>
          </p:nvSpPr>
          <p:spPr>
            <a:xfrm>
              <a:off x="1042920" y="2133720"/>
              <a:ext cx="1297080" cy="129672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3280" y="2494080"/>
              <a:ext cx="576360" cy="57600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38560" y="2133720"/>
              <a:ext cx="1296720" cy="129672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98920" y="2494080"/>
              <a:ext cx="576000" cy="57600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508720" y="2133720"/>
            <a:ext cx="2592000" cy="1296720"/>
            <a:chOff x="5508720" y="2133720"/>
            <a:chExt cx="2592000" cy="1296720"/>
          </a:xfrm>
        </p:grpSpPr>
        <p:sp>
          <p:nvSpPr>
            <p:cNvPr id="52" name=""/>
            <p:cNvSpPr/>
            <p:nvPr/>
          </p:nvSpPr>
          <p:spPr>
            <a:xfrm flipV="1">
              <a:off x="6804000" y="2133720"/>
              <a:ext cx="1296720" cy="129672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164360" y="2494080"/>
              <a:ext cx="576000" cy="57600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08720" y="2133720"/>
              <a:ext cx="1297080" cy="129672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8360" y="2494080"/>
              <a:ext cx="576360" cy="57600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a96"/>
                </a:solidFill>
                <a:latin typeface="Arial"/>
              </a:rPr>
              <a:t>A középső körök közül melyik a nagyobb?</a:t>
            </a:r>
            <a:endParaRPr b="0" lang="en-US" sz="4000" spc="-1" strike="noStrike">
              <a:solidFill>
                <a:srgbClr val="000a9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42920" y="1916280"/>
            <a:ext cx="1873440" cy="1728720"/>
            <a:chOff x="1042920" y="1916280"/>
            <a:chExt cx="1873440" cy="1728720"/>
          </a:xfrm>
        </p:grpSpPr>
        <p:sp>
          <p:nvSpPr>
            <p:cNvPr id="60" name=""/>
            <p:cNvSpPr/>
            <p:nvPr/>
          </p:nvSpPr>
          <p:spPr>
            <a:xfrm>
              <a:off x="1619280" y="2421000"/>
              <a:ext cx="720720" cy="72072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42920" y="2637000"/>
              <a:ext cx="43200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3280" y="1916280"/>
              <a:ext cx="43200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76360" y="3213000"/>
              <a:ext cx="431640" cy="43200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95640" y="1989000"/>
              <a:ext cx="431640" cy="43200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84360" y="2637000"/>
              <a:ext cx="43200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95640" y="3141720"/>
              <a:ext cx="43164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51640" y="1054080"/>
            <a:ext cx="2806560" cy="2876400"/>
            <a:chOff x="5651640" y="1054080"/>
            <a:chExt cx="2806560" cy="2876400"/>
          </a:xfrm>
        </p:grpSpPr>
        <p:sp>
          <p:nvSpPr>
            <p:cNvPr id="68" name=""/>
            <p:cNvSpPr/>
            <p:nvPr/>
          </p:nvSpPr>
          <p:spPr>
            <a:xfrm>
              <a:off x="6659640" y="2205000"/>
              <a:ext cx="720720" cy="72072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61080" y="1054080"/>
              <a:ext cx="100656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51640" y="1844640"/>
              <a:ext cx="100656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1640" y="1700280"/>
              <a:ext cx="100620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2852640"/>
              <a:ext cx="100656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93080" y="2924280"/>
              <a:ext cx="1006200" cy="100620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08:08:41Z</dcterms:created>
  <dc:creator/>
  <dc:description/>
  <dc:language>en-US</dc:language>
  <cp:lastModifiedBy>OKÉV</cp:lastModifiedBy>
  <dcterms:modified xsi:type="dcterms:W3CDTF">2006-11-03T13:17:08Z</dcterms:modified>
  <cp:revision>7</cp:revision>
  <dc:subject/>
  <dc:title>1. dia</dc:title>
</cp:coreProperties>
</file>