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3574-91C2-4481-B14A-B14EAFBC4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E073-BE8C-4F9D-91BB-6C896975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6866-1038-411F-9B35-BEC4350C4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3A26-F14F-41F7-ABB0-CBCBA517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C091-8E79-43D2-A01F-AEC1AA48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4121-A243-4ABA-93E9-2EB236F6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686D-7D3B-4107-800A-42C31E79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1AB9-4131-412F-B1A1-0833810D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3D1B-2429-48EE-B13D-34C34CF3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EEA0-2B2C-4EA0-B95B-9D9ACB3C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8041-646D-48B3-9EE1-07A00DA6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2CF7-328F-4803-86DA-3243905D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1507-CEEF-427E-BA19-52179FDEC324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Töltött kenyértekercs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Hozzávalók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1 adag kenyértész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10 szelet pármai son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8 darab keménytoj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400 g reszelt saj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2 marék friss bazsalik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aradic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lajbogy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lívaolaj, bors, s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Recep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inyújtott tészta közepe mentén helyezze el az összes alapanyago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etezze be olívaolajjal, ízesítse sóval és borssa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jtsa rá a töltelékre a tésztá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56320" y="1484280"/>
            <a:ext cx="39495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Sütés 35 percig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2270160"/>
            <a:ext cx="6118200" cy="4587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008160" y="1341360"/>
            <a:ext cx="613584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18:45:10Z</dcterms:created>
  <dc:creator>OKÉV</dc:creator>
  <dc:description/>
  <dc:language>en-US</dc:language>
  <cp:lastModifiedBy>OKÉV</cp:lastModifiedBy>
  <dcterms:modified xsi:type="dcterms:W3CDTF">2005-12-26T03:44:55Z</dcterms:modified>
  <cp:revision>6</cp:revision>
  <dc:subject/>
  <dc:title>1. dia</dc:title>
</cp:coreProperties>
</file>