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AF2-3798-4615-BF41-1B63F3AF0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4F2-5D84-47DE-BDEF-51C85799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CB3-D4F8-42A1-B3BD-ECF7D0EF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0CC-5643-48A1-8A0A-918FFD74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810-AB4D-4A8D-9946-D7C5A36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771-DCE4-4F8B-B8B9-E9740282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891-60DA-436C-B01E-DE05CEDD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923-B67D-4E42-89B2-40E6E08A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9BF-4B7D-4090-9F09-CA3770F3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A0D-DD71-45FB-97BF-85190EF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DC4B-6BD8-44DC-A1C6-314760A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D95-3BFE-44AB-9B46-F55575FD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c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0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0b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0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0b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0b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0b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0b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0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0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0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0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0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6521-F26C-4C41-A8AA-1FCB8E3BCE1E}" type="slidenum">
              <a:rPr b="0" lang="en-US" sz="1400" spc="-1" strike="noStrike">
                <a:solidFill>
                  <a:srgbClr val="fff0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ca0"/>
                </a:solidFill>
                <a:latin typeface="Arial"/>
              </a:rPr>
              <a:t>Szomjas kacsa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klasszikus tudományos játékok közé tartozik a szomjas kacsa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Működéséhez nem kell elektromosság, nincs benne elrejtve rugó, de nem is örökmozgó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5576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ca0"/>
                </a:solidFill>
                <a:latin typeface="Arial"/>
              </a:rPr>
              <a:t>Hogyan lehet a kacsát mozgásba hozni?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Megmutatjuk neki, hogyan kell inni és a csőrét vízbe mártjuk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Ha így sem akar, akkor az egész fejét bevizezzük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059360" cy="31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ca0"/>
                </a:solidFill>
                <a:latin typeface="Arial"/>
              </a:rPr>
              <a:t>A kacsa felépítése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kacsa egy hosszú üvegcsőhöz kapcsolódó két üveggömbből épül fel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fej üveggömbjéből egy vékony üvegcsőr áll ki, amely nedvszívó textíliával van bevonva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tartályban színezett éter van, amely nagyon jól párolog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dca0"/>
                </a:solidFill>
                <a:latin typeface="Arial"/>
              </a:rPr>
              <a:t>Magyarázd meg a madár működését!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4:21:46Z</dcterms:created>
  <dc:creator>SieglerGábor</dc:creator>
  <dc:description/>
  <dc:language>en-US</dc:language>
  <cp:lastModifiedBy>SieglerGábor</cp:lastModifiedBy>
  <dcterms:modified xsi:type="dcterms:W3CDTF">2005-06-18T15:33:07Z</dcterms:modified>
  <cp:revision>4</cp:revision>
  <dc:subject/>
  <dc:title>1. dia</dc:title>
</cp:coreProperties>
</file>