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FB3-4AF4-4B51-8DFA-4F6AE911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93B-32BB-48D7-AF07-2A417BD0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15D-DAA8-4A65-A331-C0A5C53B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F9A-5130-49F2-A9BC-EF875634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71E-D36A-441E-A5DF-1262CDD1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FD9-26DA-4DF9-89AF-62BD062D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AD7-5FD5-491D-9705-93833663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488-2133-41E1-9C99-A3DA941A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10F-F084-4799-8EF0-28D61708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EF7A-33C5-4B84-A561-8A2BAECB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5D8-743C-4E84-81E9-47BD7CE6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661-CA58-48D7-91BA-CB6860A9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7b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fc0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fc0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fc0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fc0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fc0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dfc08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dfc08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dfc08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dfc08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dfc08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4325-A9E9-40B9-A94C-2727B3E6C059}" type="slidenum">
              <a:rPr b="0" lang="hu-HU" sz="1400" spc="-1" strike="noStrike">
                <a:solidFill>
                  <a:srgbClr val="dfc0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0d7b4"/>
                </a:solidFill>
                <a:latin typeface="Arial"/>
              </a:rPr>
              <a:t>Hunyadi Mátyás</a:t>
            </a:r>
            <a:endParaRPr b="0" lang="en-US" sz="6000" spc="-1" strike="noStrike">
              <a:solidFill>
                <a:srgbClr val="f0d7b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7b4"/>
                </a:solidFill>
                <a:latin typeface="Arial"/>
              </a:rPr>
              <a:t>Királlyá választás</a:t>
            </a: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03848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c08d"/>
                </a:solidFill>
                <a:latin typeface="Arial"/>
              </a:rPr>
              <a:t>1458. január 24.</a:t>
            </a:r>
            <a:endParaRPr b="0" lang="en-US" sz="3200" spc="-1" strike="noStrike">
              <a:solidFill>
                <a:srgbClr val="dfc08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A Budán és Pesten összegyűlt rendek – nagybátyja, Szilágyi Mihály fegyvereinek árnyékában – e napon egyhangúlag királlyá választották Hunyadi Mátyást.</a:t>
            </a: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392436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d7b4"/>
                </a:solidFill>
                <a:latin typeface="Arial"/>
              </a:rPr>
              <a:t>Életrajzi adatok</a:t>
            </a:r>
            <a:endParaRPr b="0" lang="en-US" sz="4400" spc="-1" strike="noStrike">
              <a:solidFill>
                <a:srgbClr val="f0d7b4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05160" cy="459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4140360" y="1989000"/>
          <a:ext cx="4619520" cy="3969000"/>
        </p:xfrm>
        <a:graphic>
          <a:graphicData uri="http://schemas.openxmlformats.org/drawingml/2006/table">
            <a:tbl>
              <a:tblPr/>
              <a:tblGrid>
                <a:gridCol w="1873080"/>
                <a:gridCol w="2746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Született: 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1443. február 24-én Kolozsvárott</a:t>
                      </a:r>
                      <a:r>
                        <a:rPr b="1" lang="en-US" sz="28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Apja: 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Hunyadi János 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Királlyá választották: 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1458. január 24-én 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Koronázása: 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1464. március 29-én Székesfehérvárott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Meghalt: 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fc08d"/>
                          </a:solidFill>
                          <a:latin typeface="Arial"/>
                        </a:rPr>
                        <a:t>1490. április 6-án Bécsben</a:t>
                      </a:r>
                      <a:endParaRPr b="0" lang="en-US" sz="2000" spc="-1" strike="noStrike">
                        <a:solidFill>
                          <a:srgbClr val="dfc0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9T05:41:47Z</dcterms:created>
  <dc:creator>OKÉV</dc:creator>
  <dc:description/>
  <dc:language>en-US</dc:language>
  <cp:lastModifiedBy>OKÉV</cp:lastModifiedBy>
  <dcterms:modified xsi:type="dcterms:W3CDTF">2004-12-13T18:47:12Z</dcterms:modified>
  <cp:revision>9</cp:revision>
  <dc:subject/>
  <dc:title>Mátyás király</dc:title>
</cp:coreProperties>
</file>