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278D-6A4C-4927-A2E3-5672003BC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1339-C7F4-4C82-A573-8575686C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AD20-AD61-4F18-97E5-40A873492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ED21-3D2D-42DB-B1A7-887CEF8E9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D022-9678-42BE-B6F4-DDB8177E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EC1F-C6D4-47FC-9B05-93D5D5A0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814E-699E-4FA4-BA58-7D941A32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4571-C4E9-4AAA-895F-309F19DB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5F5A-D1F3-48B5-A880-25176FA4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403B-2AC2-459A-85D1-2A7AE1B9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7726-CEB6-4948-9A4E-1616C064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2E1D-9A19-4F2A-9C60-9E1F18C0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d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14B5-9754-48C3-A06A-A3D2B1A244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d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zomszéd Iskol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5. dec. 6. 19 ó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8000" y="108000"/>
            <a:ext cx="1922400" cy="179856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7462800" y="108000"/>
            <a:ext cx="1572840" cy="1800000"/>
            <a:chOff x="7462800" y="108000"/>
            <a:chExt cx="1572840" cy="180000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7462800" y="108000"/>
              <a:ext cx="1572480" cy="91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 flipH="1" rot="10800000">
              <a:off x="7463160" y="988200"/>
              <a:ext cx="1572480" cy="919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d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ineta BT"/>
              </a:rPr>
              <a:t>Fejet Lenk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92000" y="1528560"/>
            <a:ext cx="52182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ár azt hallottam, nagyon igyekszel, nem mennek olyan jól a dolgok. Talán azért, mert szétszórt va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óbálj meg néh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djuk –  óránként egyszer, pár percre megállni, és átgondolni, mit akartál az elmúlt órában csinálni és mi a célod a következő óráv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781680" y="950760"/>
            <a:ext cx="392400" cy="452520"/>
            <a:chOff x="6781680" y="950760"/>
            <a:chExt cx="392400" cy="45252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6781680" y="950760"/>
              <a:ext cx="392400" cy="2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 flipH="1" rot="10800000">
              <a:off x="6781680" y="1172880"/>
              <a:ext cx="392040" cy="230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"/>
          <p:cNvGrpSpPr/>
          <p:nvPr/>
        </p:nvGrpSpPr>
        <p:grpSpPr>
          <a:xfrm>
            <a:off x="360360" y="1190520"/>
            <a:ext cx="8272440" cy="5666760"/>
            <a:chOff x="360360" y="1190520"/>
            <a:chExt cx="8272440" cy="5666760"/>
          </a:xfrm>
        </p:grpSpPr>
        <p:grpSp>
          <p:nvGrpSpPr>
            <p:cNvPr id="53" name=""/>
            <p:cNvGrpSpPr/>
            <p:nvPr/>
          </p:nvGrpSpPr>
          <p:grpSpPr>
            <a:xfrm>
              <a:off x="692280" y="1190520"/>
              <a:ext cx="388800" cy="448560"/>
              <a:chOff x="692280" y="1190520"/>
              <a:chExt cx="388800" cy="448560"/>
            </a:xfrm>
          </p:grpSpPr>
          <p:pic>
            <p:nvPicPr>
              <p:cNvPr id="5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92280" y="119052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692280" y="141048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" name=""/>
            <p:cNvGrpSpPr/>
            <p:nvPr/>
          </p:nvGrpSpPr>
          <p:grpSpPr>
            <a:xfrm>
              <a:off x="1414440" y="3570120"/>
              <a:ext cx="388800" cy="448560"/>
              <a:chOff x="1414440" y="3570120"/>
              <a:chExt cx="388800" cy="448560"/>
            </a:xfrm>
          </p:grpSpPr>
          <p:pic>
            <p:nvPicPr>
              <p:cNvPr id="5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414440" y="357012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" name="" descr="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1414440" y="379008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" name=""/>
            <p:cNvGrpSpPr/>
            <p:nvPr/>
          </p:nvGrpSpPr>
          <p:grpSpPr>
            <a:xfrm>
              <a:off x="2093760" y="1706400"/>
              <a:ext cx="389160" cy="448560"/>
              <a:chOff x="2093760" y="1706400"/>
              <a:chExt cx="389160" cy="448560"/>
            </a:xfrm>
          </p:grpSpPr>
          <p:pic>
            <p:nvPicPr>
              <p:cNvPr id="6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093760" y="170640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" descr=""/>
              <p:cNvPicPr/>
              <p:nvPr/>
            </p:nvPicPr>
            <p:blipFill>
              <a:blip r:embed="rId8"/>
              <a:stretch/>
            </p:blipFill>
            <p:spPr>
              <a:xfrm flipH="1" rot="10800000">
                <a:off x="2093760" y="192636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" name=""/>
            <p:cNvGrpSpPr/>
            <p:nvPr/>
          </p:nvGrpSpPr>
          <p:grpSpPr>
            <a:xfrm>
              <a:off x="2573280" y="2943360"/>
              <a:ext cx="389160" cy="448560"/>
              <a:chOff x="2573280" y="2943360"/>
              <a:chExt cx="389160" cy="448560"/>
            </a:xfrm>
          </p:grpSpPr>
          <p:pic>
            <p:nvPicPr>
              <p:cNvPr id="6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73280" y="294336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10"/>
              <a:stretch/>
            </p:blipFill>
            <p:spPr>
              <a:xfrm flipH="1" rot="10800000">
                <a:off x="2573280" y="316332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5" name=""/>
            <p:cNvGrpSpPr/>
            <p:nvPr/>
          </p:nvGrpSpPr>
          <p:grpSpPr>
            <a:xfrm>
              <a:off x="695160" y="2622600"/>
              <a:ext cx="389160" cy="448560"/>
              <a:chOff x="695160" y="2622600"/>
              <a:chExt cx="389160" cy="448560"/>
            </a:xfrm>
          </p:grpSpPr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5160" y="262260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 flipH="1" rot="10800000">
                <a:off x="695160" y="284256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" name=""/>
            <p:cNvGrpSpPr/>
            <p:nvPr/>
          </p:nvGrpSpPr>
          <p:grpSpPr>
            <a:xfrm>
              <a:off x="2489040" y="4459320"/>
              <a:ext cx="389160" cy="448560"/>
              <a:chOff x="2489040" y="4459320"/>
              <a:chExt cx="389160" cy="448560"/>
            </a:xfrm>
          </p:grpSpPr>
          <p:pic>
            <p:nvPicPr>
              <p:cNvPr id="6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489040" y="445932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" descr=""/>
              <p:cNvPicPr/>
              <p:nvPr/>
            </p:nvPicPr>
            <p:blipFill>
              <a:blip r:embed="rId14"/>
              <a:stretch/>
            </p:blipFill>
            <p:spPr>
              <a:xfrm flipH="1" rot="10800000">
                <a:off x="2489040" y="467928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1" name=""/>
            <p:cNvGrpSpPr/>
            <p:nvPr/>
          </p:nvGrpSpPr>
          <p:grpSpPr>
            <a:xfrm>
              <a:off x="639720" y="4681440"/>
              <a:ext cx="389160" cy="448560"/>
              <a:chOff x="639720" y="4681440"/>
              <a:chExt cx="389160" cy="448560"/>
            </a:xfrm>
          </p:grpSpPr>
          <p:pic>
            <p:nvPicPr>
              <p:cNvPr id="72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39720" y="468144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" descr=""/>
              <p:cNvPicPr/>
              <p:nvPr/>
            </p:nvPicPr>
            <p:blipFill>
              <a:blip r:embed="rId16"/>
              <a:stretch/>
            </p:blipFill>
            <p:spPr>
              <a:xfrm flipH="1" rot="10800000">
                <a:off x="639720" y="490140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" name=""/>
            <p:cNvGrpSpPr/>
            <p:nvPr/>
          </p:nvGrpSpPr>
          <p:grpSpPr>
            <a:xfrm>
              <a:off x="7405560" y="5904000"/>
              <a:ext cx="389160" cy="448560"/>
              <a:chOff x="7405560" y="5904000"/>
              <a:chExt cx="389160" cy="448560"/>
            </a:xfrm>
          </p:grpSpPr>
          <p:pic>
            <p:nvPicPr>
              <p:cNvPr id="75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405560" y="590400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" descr=""/>
              <p:cNvPicPr/>
              <p:nvPr/>
            </p:nvPicPr>
            <p:blipFill>
              <a:blip r:embed="rId18"/>
              <a:stretch/>
            </p:blipFill>
            <p:spPr>
              <a:xfrm flipH="1" rot="10800000">
                <a:off x="7405560" y="612396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" name=""/>
            <p:cNvGrpSpPr/>
            <p:nvPr/>
          </p:nvGrpSpPr>
          <p:grpSpPr>
            <a:xfrm>
              <a:off x="4741920" y="5940360"/>
              <a:ext cx="388800" cy="448560"/>
              <a:chOff x="4741920" y="5940360"/>
              <a:chExt cx="388800" cy="448560"/>
            </a:xfrm>
          </p:grpSpPr>
          <p:pic>
            <p:nvPicPr>
              <p:cNvPr id="78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741920" y="594036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" descr=""/>
              <p:cNvPicPr/>
              <p:nvPr/>
            </p:nvPicPr>
            <p:blipFill>
              <a:blip r:embed="rId20"/>
              <a:stretch/>
            </p:blipFill>
            <p:spPr>
              <a:xfrm flipH="1" rot="10800000">
                <a:off x="4741920" y="616032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0" name=""/>
            <p:cNvGrpSpPr/>
            <p:nvPr/>
          </p:nvGrpSpPr>
          <p:grpSpPr>
            <a:xfrm>
              <a:off x="1320840" y="5662440"/>
              <a:ext cx="388800" cy="448560"/>
              <a:chOff x="1320840" y="5662440"/>
              <a:chExt cx="388800" cy="448560"/>
            </a:xfrm>
          </p:grpSpPr>
          <p:pic>
            <p:nvPicPr>
              <p:cNvPr id="81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1320840" y="566244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" descr=""/>
              <p:cNvPicPr/>
              <p:nvPr/>
            </p:nvPicPr>
            <p:blipFill>
              <a:blip r:embed="rId22"/>
              <a:stretch/>
            </p:blipFill>
            <p:spPr>
              <a:xfrm flipH="1" rot="10800000">
                <a:off x="1320840" y="588240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3" name=""/>
            <p:cNvGrpSpPr/>
            <p:nvPr/>
          </p:nvGrpSpPr>
          <p:grpSpPr>
            <a:xfrm>
              <a:off x="8244000" y="6323040"/>
              <a:ext cx="388800" cy="448560"/>
              <a:chOff x="8244000" y="6323040"/>
              <a:chExt cx="388800" cy="448560"/>
            </a:xfrm>
          </p:grpSpPr>
          <p:pic>
            <p:nvPicPr>
              <p:cNvPr id="84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8244000" y="632304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" descr=""/>
              <p:cNvPicPr/>
              <p:nvPr/>
            </p:nvPicPr>
            <p:blipFill>
              <a:blip r:embed="rId24"/>
              <a:stretch/>
            </p:blipFill>
            <p:spPr>
              <a:xfrm flipH="1" rot="10800000">
                <a:off x="8244000" y="654300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"/>
            <p:cNvGrpSpPr/>
            <p:nvPr/>
          </p:nvGrpSpPr>
          <p:grpSpPr>
            <a:xfrm>
              <a:off x="5894280" y="6408720"/>
              <a:ext cx="389160" cy="448560"/>
              <a:chOff x="5894280" y="6408720"/>
              <a:chExt cx="389160" cy="448560"/>
            </a:xfrm>
          </p:grpSpPr>
          <p:pic>
            <p:nvPicPr>
              <p:cNvPr id="87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5894280" y="640872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" descr=""/>
              <p:cNvPicPr/>
              <p:nvPr/>
            </p:nvPicPr>
            <p:blipFill>
              <a:blip r:embed="rId26"/>
              <a:stretch/>
            </p:blipFill>
            <p:spPr>
              <a:xfrm flipH="1" rot="10800000">
                <a:off x="5894280" y="662868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9" name=""/>
            <p:cNvGrpSpPr/>
            <p:nvPr/>
          </p:nvGrpSpPr>
          <p:grpSpPr>
            <a:xfrm>
              <a:off x="3745080" y="6408720"/>
              <a:ext cx="388800" cy="448560"/>
              <a:chOff x="3745080" y="6408720"/>
              <a:chExt cx="388800" cy="448560"/>
            </a:xfrm>
          </p:grpSpPr>
          <p:pic>
            <p:nvPicPr>
              <p:cNvPr id="90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3745080" y="640872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" descr=""/>
              <p:cNvPicPr/>
              <p:nvPr/>
            </p:nvPicPr>
            <p:blipFill>
              <a:blip r:embed="rId28"/>
              <a:stretch/>
            </p:blipFill>
            <p:spPr>
              <a:xfrm flipH="1" rot="10800000">
                <a:off x="3745080" y="662868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2" name=""/>
            <p:cNvGrpSpPr/>
            <p:nvPr/>
          </p:nvGrpSpPr>
          <p:grpSpPr>
            <a:xfrm>
              <a:off x="2124000" y="6151680"/>
              <a:ext cx="389160" cy="448560"/>
              <a:chOff x="2124000" y="6151680"/>
              <a:chExt cx="389160" cy="448560"/>
            </a:xfrm>
          </p:grpSpPr>
          <p:pic>
            <p:nvPicPr>
              <p:cNvPr id="93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2124000" y="615168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" descr=""/>
              <p:cNvPicPr/>
              <p:nvPr/>
            </p:nvPicPr>
            <p:blipFill>
              <a:blip r:embed="rId30"/>
              <a:stretch/>
            </p:blipFill>
            <p:spPr>
              <a:xfrm flipH="1" rot="10800000">
                <a:off x="2124000" y="637164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5" name=""/>
            <p:cNvGrpSpPr/>
            <p:nvPr/>
          </p:nvGrpSpPr>
          <p:grpSpPr>
            <a:xfrm>
              <a:off x="360360" y="6408720"/>
              <a:ext cx="388800" cy="448560"/>
              <a:chOff x="360360" y="6408720"/>
              <a:chExt cx="388800" cy="448560"/>
            </a:xfrm>
          </p:grpSpPr>
          <p:pic>
            <p:nvPicPr>
              <p:cNvPr id="96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360360" y="640872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32"/>
              <a:stretch/>
            </p:blipFill>
            <p:spPr>
              <a:xfrm flipH="1" rot="10800000">
                <a:off x="360360" y="662868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100"/>
                            </p:stCondLst>
                            <p:childTnLst>
                              <p:par>
                                <p:cTn id="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6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d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ineta BT"/>
              </a:rPr>
              <a:t>Mik Robik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92000" y="1528560"/>
            <a:ext cx="52182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ktív vagy, minden közösségi programban részt veszel, dolgozol az iskolai önkormányzatban 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igyázz, hogy mindenre, még alvásra is megfelelő mennyiségű időd jusso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781680" y="950760"/>
            <a:ext cx="389160" cy="448560"/>
            <a:chOff x="6781680" y="950760"/>
            <a:chExt cx="389160" cy="44856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6781680" y="950760"/>
              <a:ext cx="3891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 flipH="1" rot="10800000">
              <a:off x="6781680" y="1170720"/>
              <a:ext cx="38880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"/>
          <p:cNvGrpSpPr/>
          <p:nvPr/>
        </p:nvGrpSpPr>
        <p:grpSpPr>
          <a:xfrm>
            <a:off x="360360" y="1190520"/>
            <a:ext cx="8272440" cy="5666760"/>
            <a:chOff x="360360" y="1190520"/>
            <a:chExt cx="8272440" cy="5666760"/>
          </a:xfrm>
        </p:grpSpPr>
        <p:grpSp>
          <p:nvGrpSpPr>
            <p:cNvPr id="104" name=""/>
            <p:cNvGrpSpPr/>
            <p:nvPr/>
          </p:nvGrpSpPr>
          <p:grpSpPr>
            <a:xfrm>
              <a:off x="692280" y="1190520"/>
              <a:ext cx="388800" cy="448560"/>
              <a:chOff x="692280" y="1190520"/>
              <a:chExt cx="388800" cy="448560"/>
            </a:xfrm>
          </p:grpSpPr>
          <p:pic>
            <p:nvPicPr>
              <p:cNvPr id="10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92280" y="119052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" descr="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692280" y="141048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7" name=""/>
            <p:cNvGrpSpPr/>
            <p:nvPr/>
          </p:nvGrpSpPr>
          <p:grpSpPr>
            <a:xfrm>
              <a:off x="1414440" y="3570120"/>
              <a:ext cx="388800" cy="448560"/>
              <a:chOff x="1414440" y="3570120"/>
              <a:chExt cx="388800" cy="448560"/>
            </a:xfrm>
          </p:grpSpPr>
          <p:pic>
            <p:nvPicPr>
              <p:cNvPr id="10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414440" y="357012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" name="" descr="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1414440" y="379008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" name=""/>
            <p:cNvGrpSpPr/>
            <p:nvPr/>
          </p:nvGrpSpPr>
          <p:grpSpPr>
            <a:xfrm>
              <a:off x="2093760" y="1706400"/>
              <a:ext cx="389160" cy="448560"/>
              <a:chOff x="2093760" y="1706400"/>
              <a:chExt cx="389160" cy="448560"/>
            </a:xfrm>
          </p:grpSpPr>
          <p:pic>
            <p:nvPicPr>
              <p:cNvPr id="11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093760" y="170640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" descr=""/>
              <p:cNvPicPr/>
              <p:nvPr/>
            </p:nvPicPr>
            <p:blipFill>
              <a:blip r:embed="rId8"/>
              <a:stretch/>
            </p:blipFill>
            <p:spPr>
              <a:xfrm flipH="1" rot="10800000">
                <a:off x="2093760" y="192636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" name=""/>
            <p:cNvGrpSpPr/>
            <p:nvPr/>
          </p:nvGrpSpPr>
          <p:grpSpPr>
            <a:xfrm>
              <a:off x="2573280" y="2943360"/>
              <a:ext cx="389160" cy="448560"/>
              <a:chOff x="2573280" y="2943360"/>
              <a:chExt cx="389160" cy="448560"/>
            </a:xfrm>
          </p:grpSpPr>
          <p:pic>
            <p:nvPicPr>
              <p:cNvPr id="11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73280" y="294336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10"/>
              <a:stretch/>
            </p:blipFill>
            <p:spPr>
              <a:xfrm flipH="1" rot="10800000">
                <a:off x="2573280" y="316332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" name=""/>
            <p:cNvGrpSpPr/>
            <p:nvPr/>
          </p:nvGrpSpPr>
          <p:grpSpPr>
            <a:xfrm>
              <a:off x="695160" y="2622600"/>
              <a:ext cx="389160" cy="448560"/>
              <a:chOff x="695160" y="2622600"/>
              <a:chExt cx="389160" cy="448560"/>
            </a:xfrm>
          </p:grpSpPr>
          <p:pic>
            <p:nvPicPr>
              <p:cNvPr id="117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5160" y="262260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" descr=""/>
              <p:cNvPicPr/>
              <p:nvPr/>
            </p:nvPicPr>
            <p:blipFill>
              <a:blip r:embed="rId12"/>
              <a:stretch/>
            </p:blipFill>
            <p:spPr>
              <a:xfrm flipH="1" rot="10800000">
                <a:off x="695160" y="284256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" name=""/>
            <p:cNvGrpSpPr/>
            <p:nvPr/>
          </p:nvGrpSpPr>
          <p:grpSpPr>
            <a:xfrm>
              <a:off x="2489040" y="4459320"/>
              <a:ext cx="389160" cy="448560"/>
              <a:chOff x="2489040" y="4459320"/>
              <a:chExt cx="389160" cy="448560"/>
            </a:xfrm>
          </p:grpSpPr>
          <p:pic>
            <p:nvPicPr>
              <p:cNvPr id="120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489040" y="445932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" descr=""/>
              <p:cNvPicPr/>
              <p:nvPr/>
            </p:nvPicPr>
            <p:blipFill>
              <a:blip r:embed="rId14"/>
              <a:stretch/>
            </p:blipFill>
            <p:spPr>
              <a:xfrm flipH="1" rot="10800000">
                <a:off x="2489040" y="467928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2" name=""/>
            <p:cNvGrpSpPr/>
            <p:nvPr/>
          </p:nvGrpSpPr>
          <p:grpSpPr>
            <a:xfrm>
              <a:off x="639720" y="4681440"/>
              <a:ext cx="389160" cy="448560"/>
              <a:chOff x="639720" y="4681440"/>
              <a:chExt cx="389160" cy="448560"/>
            </a:xfrm>
          </p:grpSpPr>
          <p:pic>
            <p:nvPicPr>
              <p:cNvPr id="123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39720" y="468144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" descr=""/>
              <p:cNvPicPr/>
              <p:nvPr/>
            </p:nvPicPr>
            <p:blipFill>
              <a:blip r:embed="rId16"/>
              <a:stretch/>
            </p:blipFill>
            <p:spPr>
              <a:xfrm flipH="1" rot="10800000">
                <a:off x="639720" y="490140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5" name=""/>
            <p:cNvGrpSpPr/>
            <p:nvPr/>
          </p:nvGrpSpPr>
          <p:grpSpPr>
            <a:xfrm>
              <a:off x="7405560" y="5904000"/>
              <a:ext cx="389160" cy="448560"/>
              <a:chOff x="7405560" y="5904000"/>
              <a:chExt cx="389160" cy="448560"/>
            </a:xfrm>
          </p:grpSpPr>
          <p:pic>
            <p:nvPicPr>
              <p:cNvPr id="126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405560" y="590400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" descr=""/>
              <p:cNvPicPr/>
              <p:nvPr/>
            </p:nvPicPr>
            <p:blipFill>
              <a:blip r:embed="rId18"/>
              <a:stretch/>
            </p:blipFill>
            <p:spPr>
              <a:xfrm flipH="1" rot="10800000">
                <a:off x="7405560" y="612396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8" name=""/>
            <p:cNvGrpSpPr/>
            <p:nvPr/>
          </p:nvGrpSpPr>
          <p:grpSpPr>
            <a:xfrm>
              <a:off x="4741920" y="5940360"/>
              <a:ext cx="388800" cy="448560"/>
              <a:chOff x="4741920" y="5940360"/>
              <a:chExt cx="388800" cy="448560"/>
            </a:xfrm>
          </p:grpSpPr>
          <p:pic>
            <p:nvPicPr>
              <p:cNvPr id="129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741920" y="594036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" descr=""/>
              <p:cNvPicPr/>
              <p:nvPr/>
            </p:nvPicPr>
            <p:blipFill>
              <a:blip r:embed="rId20"/>
              <a:stretch/>
            </p:blipFill>
            <p:spPr>
              <a:xfrm flipH="1" rot="10800000">
                <a:off x="4741920" y="616032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1" name=""/>
            <p:cNvGrpSpPr/>
            <p:nvPr/>
          </p:nvGrpSpPr>
          <p:grpSpPr>
            <a:xfrm>
              <a:off x="1320840" y="5662440"/>
              <a:ext cx="388800" cy="448560"/>
              <a:chOff x="1320840" y="5662440"/>
              <a:chExt cx="388800" cy="448560"/>
            </a:xfrm>
          </p:grpSpPr>
          <p:pic>
            <p:nvPicPr>
              <p:cNvPr id="132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1320840" y="566244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" descr=""/>
              <p:cNvPicPr/>
              <p:nvPr/>
            </p:nvPicPr>
            <p:blipFill>
              <a:blip r:embed="rId22"/>
              <a:stretch/>
            </p:blipFill>
            <p:spPr>
              <a:xfrm flipH="1" rot="10800000">
                <a:off x="1320840" y="588240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4" name=""/>
            <p:cNvGrpSpPr/>
            <p:nvPr/>
          </p:nvGrpSpPr>
          <p:grpSpPr>
            <a:xfrm>
              <a:off x="8244000" y="6323040"/>
              <a:ext cx="388800" cy="448560"/>
              <a:chOff x="8244000" y="6323040"/>
              <a:chExt cx="388800" cy="448560"/>
            </a:xfrm>
          </p:grpSpPr>
          <p:pic>
            <p:nvPicPr>
              <p:cNvPr id="135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8244000" y="632304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" descr=""/>
              <p:cNvPicPr/>
              <p:nvPr/>
            </p:nvPicPr>
            <p:blipFill>
              <a:blip r:embed="rId24"/>
              <a:stretch/>
            </p:blipFill>
            <p:spPr>
              <a:xfrm flipH="1" rot="10800000">
                <a:off x="8244000" y="654300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7" name=""/>
            <p:cNvGrpSpPr/>
            <p:nvPr/>
          </p:nvGrpSpPr>
          <p:grpSpPr>
            <a:xfrm>
              <a:off x="5894280" y="6408720"/>
              <a:ext cx="389160" cy="448560"/>
              <a:chOff x="5894280" y="6408720"/>
              <a:chExt cx="389160" cy="448560"/>
            </a:xfrm>
          </p:grpSpPr>
          <p:pic>
            <p:nvPicPr>
              <p:cNvPr id="138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5894280" y="640872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" descr=""/>
              <p:cNvPicPr/>
              <p:nvPr/>
            </p:nvPicPr>
            <p:blipFill>
              <a:blip r:embed="rId26"/>
              <a:stretch/>
            </p:blipFill>
            <p:spPr>
              <a:xfrm flipH="1" rot="10800000">
                <a:off x="5894280" y="662868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0" name=""/>
            <p:cNvGrpSpPr/>
            <p:nvPr/>
          </p:nvGrpSpPr>
          <p:grpSpPr>
            <a:xfrm>
              <a:off x="3745080" y="6408720"/>
              <a:ext cx="388800" cy="448560"/>
              <a:chOff x="3745080" y="6408720"/>
              <a:chExt cx="388800" cy="448560"/>
            </a:xfrm>
          </p:grpSpPr>
          <p:pic>
            <p:nvPicPr>
              <p:cNvPr id="141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3745080" y="640872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" descr=""/>
              <p:cNvPicPr/>
              <p:nvPr/>
            </p:nvPicPr>
            <p:blipFill>
              <a:blip r:embed="rId28"/>
              <a:stretch/>
            </p:blipFill>
            <p:spPr>
              <a:xfrm flipH="1" rot="10800000">
                <a:off x="3745080" y="662868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3" name=""/>
            <p:cNvGrpSpPr/>
            <p:nvPr/>
          </p:nvGrpSpPr>
          <p:grpSpPr>
            <a:xfrm>
              <a:off x="2124000" y="6151680"/>
              <a:ext cx="389160" cy="448560"/>
              <a:chOff x="2124000" y="6151680"/>
              <a:chExt cx="389160" cy="448560"/>
            </a:xfrm>
          </p:grpSpPr>
          <p:pic>
            <p:nvPicPr>
              <p:cNvPr id="144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2124000" y="615168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" descr=""/>
              <p:cNvPicPr/>
              <p:nvPr/>
            </p:nvPicPr>
            <p:blipFill>
              <a:blip r:embed="rId30"/>
              <a:stretch/>
            </p:blipFill>
            <p:spPr>
              <a:xfrm flipH="1" rot="10800000">
                <a:off x="2124000" y="637164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6" name=""/>
            <p:cNvGrpSpPr/>
            <p:nvPr/>
          </p:nvGrpSpPr>
          <p:grpSpPr>
            <a:xfrm>
              <a:off x="360360" y="6408720"/>
              <a:ext cx="388800" cy="448560"/>
              <a:chOff x="360360" y="6408720"/>
              <a:chExt cx="388800" cy="448560"/>
            </a:xfrm>
          </p:grpSpPr>
          <p:pic>
            <p:nvPicPr>
              <p:cNvPr id="147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360360" y="640872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" descr=""/>
              <p:cNvPicPr/>
              <p:nvPr/>
            </p:nvPicPr>
            <p:blipFill>
              <a:blip r:embed="rId32"/>
              <a:stretch/>
            </p:blipFill>
            <p:spPr>
              <a:xfrm flipH="1" rot="10800000">
                <a:off x="360360" y="662868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10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25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18:42:05Z</dcterms:created>
  <dc:creator/>
  <dc:description/>
  <dc:language>en-US</dc:language>
  <cp:lastModifiedBy>OKÉV</cp:lastModifiedBy>
  <dcterms:modified xsi:type="dcterms:W3CDTF">2005-08-17T20:29:03Z</dcterms:modified>
  <cp:revision>20</cp:revision>
  <dc:subject/>
  <dc:title>Szomszéd Iskola</dc:title>
</cp:coreProperties>
</file>