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900-A348-42F1-9D5F-6FA2FA00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7C-1416-401E-ADBF-31801C80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345-7B6A-4398-A507-06CC7B2D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1A2-78BE-42FF-B279-04A604C5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B2D-6A7E-43DB-8759-9C58412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91-8651-45B3-946C-B2CEFC2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B92-2A6A-4AF4-B586-B758C2B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93E-697F-4571-A8A4-1610450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B96-B82A-44B4-A36C-E276E3C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45C-DD4C-4402-AC66-EE157CB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E92-6322-412B-90F6-911C746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2E1-AF5C-4D28-8404-76D6D95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17B-B8D4-445E-B4BB-C884B6889840}" type="slidenum">
              <a:rPr b="0" lang="hu-HU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z RGB színkeverési módszer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apszín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kék (Blu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zöld (Gree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63880"/>
            <a:ext cx="27432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99"/>
                </a:solidFill>
                <a:latin typeface="Arial"/>
              </a:rPr>
              <a:t>vörös (Red)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27432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0" cy="226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1600200"/>
            <a:ext cx="0" cy="226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63880"/>
            <a:ext cx="0" cy="226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002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86800" y="3863880"/>
            <a:ext cx="0" cy="226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6126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700280"/>
            <a:ext cx="2016360" cy="20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700280"/>
            <a:ext cx="2016000" cy="20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1700280"/>
            <a:ext cx="2016360" cy="20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zínkeverés az alapszínekbő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zín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örö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Zöl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Kék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136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ehér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árg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Lila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Cián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örös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Zöld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Kék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ekete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136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itív színkever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25720" y="1600200"/>
          <a:ext cx="5091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1600200"/>
                    <a:ext cx="5091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5:11:28Z</dcterms:created>
  <dc:creator>OKÉV</dc:creator>
  <dc:description/>
  <dc:language>en-US</dc:language>
  <cp:lastModifiedBy>OKÉV</cp:lastModifiedBy>
  <dcterms:modified xsi:type="dcterms:W3CDTF">2004-12-13T13:00:25Z</dcterms:modified>
  <cp:revision>9</cp:revision>
  <dc:subject/>
  <dc:title>RGB színkeverés</dc:title>
</cp:coreProperties>
</file>