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A591-2052-460E-8DA1-4840BBA9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526-9C02-4FAA-995C-97650E12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24486-5F8A-412D-97C0-F86503DA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26789-FA24-4E30-9B4C-F357910D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1D8E2-C10B-45B0-A2B9-E7229E18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7B42A-9B6E-404C-A965-6A7B50D3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822A7-FE36-44B1-B2C5-1E6ECF22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D4405-207B-481E-9CA8-C52E5A3D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5C14D-F79F-4BF6-949F-9395BA79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50ED8-D6AB-4C69-B53F-9BB43097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D8543-AC0A-4C7C-8789-7E05EEB7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1D820-915C-4418-9EBF-7B039163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A8C-C777-460E-80FB-89C72249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E9251-4199-4D5A-8348-1AA3DB8B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95AA0-6D68-41BD-B8A6-1716C1D9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C8B01-881D-4DB9-B76E-0E67ADCF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91E37-F8F6-4358-9C37-4172BCC1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FEE5E-A304-492E-8AA4-C38C32D8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96FD2-6A05-4FA7-9412-E25629C4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47167-2515-4E8D-9FFF-F537BEFD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4A3A4-E8A0-4B93-A32E-3DF654BE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15164-64F8-40AC-A2B8-0FE3F78A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041D2-3976-4465-A4E5-0AF0A0CD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93E2-A52D-4E8F-90A9-55E7300F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C0F40-97F3-4DA1-BE63-99ABDABD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326ED-46AE-496C-99E8-B9EE9BBA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FBED7-1D79-4034-933B-5A94B062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6EA71-35AA-4016-B2A2-1B091EDB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871EE-130C-49DA-A24F-E7791EF1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733DE-38EE-4D87-8428-5BBCB516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643E4-C39A-4EC7-986D-D178D5E2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DFBE3-11EB-4ACE-AB96-D5B87375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1F334-2459-4473-9C9B-4CFE93BA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D564D-57CB-48B2-8E8B-1B01B124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8FFD-6545-4DC4-8C81-9541ABDD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2D6C7-1BA6-4688-9203-7A861B9A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6118B-F34A-46A0-884E-3688D0B5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D6AD1-EC1E-40E7-9761-021152BA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386D0-39B9-4D40-A7F8-5E22CFC3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4844B-6B73-4992-AFC7-11E7770D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94B3C-643A-4492-9EF1-99AAEF63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D3DD0-2751-4608-B649-3BC3C0FD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B34FC-4F0B-4A2B-B8A7-F37D3B3F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05885-D176-4495-96C7-EA64EAA9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01E6B-243D-43D2-A0EF-4733431B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479F-AAFC-47A2-9F13-8DF3DDE6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5FE0D-6226-40A9-91E6-10543BBF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98CA4-09D2-48CD-BE04-EF333C29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02D8E-D757-43B0-8FEE-54887A3E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92423-31F7-4166-AD4B-E8A134EA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B2168-BA44-4BD8-9624-DB8D86AF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5A51-6AAB-4800-9AA6-A3BD4287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34EF-24A0-4D3F-B8DF-B09C2356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B574-5F12-41F9-80ED-7A831A29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8C34-D407-40AC-9F06-B38CE9E2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F3D5-F4B2-4F18-B163-660E7FD5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9063-466F-4C13-AB0A-C0CE48C6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5FF2-13CB-4502-8E28-A5C1D4E6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FA06-EB3D-41AA-B8F3-79267A90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CE96-AB30-4278-B7F7-5FD95792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4340-9A3B-4267-BE4E-A8580E0A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77EB-2874-4471-AB21-8EA6863D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1BE38-132B-49D3-A0E4-AAE35557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2A363-962D-4983-920C-F1F2A9B3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1253E-EDA5-4111-8A16-2B5675A0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22638-9AB7-4F21-8182-0DC6F2C0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3A8AF-0703-4B7B-BCE7-AEDFBF88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E13-31CE-4DC2-908C-83203E2E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DDFA7-99B3-4C49-BC29-5C8F0326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45364-4CE3-40CA-AC77-086258CF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5C246-AB2A-4A3C-A955-4B611F0E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5C902-FB77-439C-99E1-15302889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3B81A-E547-4211-B76D-F055DB01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A1C97-5A6D-46E7-B517-038E18FB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57ABF-A950-4B0C-982D-3ED74BCB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002D5-5471-4047-BB40-36384088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6724B-25B2-484E-9C10-C1921340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1C1A3-B4D4-4E2C-8C24-F361A00B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F5A9-213D-4F7B-9E5B-C87B6649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59C4C-AA0E-4574-AB27-D15DCA8B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402C1-BE97-4E76-ADFC-0042C4A4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AA620-0BF6-43E5-ADC3-F47E6985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CDDAD-F9E9-4EC4-B594-AF968492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CB3D2-A007-46C6-9986-EB738BEA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7E45F-DA20-48FC-BFCB-CC323731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1E5A9-E683-4E3F-9BE5-FA2A474C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3E913-8C00-4F8F-BC31-05F016F8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A7346-83CE-45DB-92D6-0FB53415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E5625-8FF0-4CBF-A4B7-CD9BE820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CCEE-6DC0-4D11-9A50-9F140720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189D0-E13A-4D1F-BDE5-55673B6C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53AE8-F024-4479-9846-414DA0D7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EEF58-DD6F-4C5A-97FE-3939AFF6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BAD92-49CF-4A3E-9C6E-1D4A9CCD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8724D-094F-4294-B3B3-FC73DBBD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A7DA1-C2B3-4DBA-AE86-700C8003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D99D5-2DC2-481F-BBE9-C762FB2F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9C9CC-EAAD-4020-82F4-CC162840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7F120-13B2-45DC-B4D7-1561B3B7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8D829-E0EE-4BE7-B399-909656D6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6D77-BF57-46F8-8FBC-1A39719B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18B0F-7888-4128-94B3-7316439F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2AC18-167D-472B-B8E5-C12859F9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9A2C9-8A62-4BF0-A386-48A67E12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49429-A359-4366-B598-BDD0642C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C846D-1E56-4E98-9E4C-062BF82B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61AD1-1205-4D0B-93A9-F05396FA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ABDEC-9337-41A7-9EBF-BB849451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3DF50-2988-4512-A0A9-C1F34058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52EB9-0479-4185-A065-55A84D87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06D83-1A5F-4142-B3DE-FDE22942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A952-BF54-430A-81E9-43E0B26D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3BA28-BA78-4D06-BA22-8C42A37D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8AF4A-138B-4D7B-A66D-2F20E3A7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26125-174A-4E0E-926A-FD3A00A9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1654D-C8B7-4A01-A86E-7D065234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45460-3753-4D1D-9E23-C0F10B31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5EB8A-C90D-4DD7-8C7B-A5BBEF7F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1E5E2-33A1-465E-B3DF-0F35021D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CB00E-DC08-400A-99C2-A86FD7CD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DE0A2-D05D-4CE3-ACEA-09712283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BAE7A-C4AC-4E70-8E4E-12AAF79E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16E6-3925-4CDD-9FA4-934008BE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0FBA9-9FC3-4D73-B95C-B1B158F4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A47FC-2B78-4926-BD5F-8E0B084E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6D6FA-49CF-4B28-8AB3-2CB2DE7E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6F3AE-051E-48D1-BC1C-EC8289DC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7C8FD-A27E-4F33-9CCE-CF5B524A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4032C-E5E9-446E-AD17-CD4DAF68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064FB-746F-4A51-8B48-3D7AAB2B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6FAF0-0307-4B30-9217-02441C67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354FC-74E7-4D90-91F0-C1FF7160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3C57F-632F-49CC-B490-3C72404D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B6B2-C409-4C5C-9780-A5E8CEA4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19FA5-1974-4575-BDAF-ECD8FB82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658F2-75BE-424A-BDCF-A382FA37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ABD6E-FF81-4CA1-9FB8-CEFD0347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CEB6F-CC38-450B-B033-632D3B36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46B86-FB0E-4B4F-901A-EE9D5996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CD489-4BCC-43CD-9DF1-F1C214C3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8BCF2-819D-4F6B-8C35-2685E95D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B4FAA-F19E-4D53-BAAA-D27FDBC0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3FC8D-0837-41B8-A477-BF65E94C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FFC85-03BE-4A39-AC06-38EC67AE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8ABD-415B-4B6B-8850-3F29CE36F64A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31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F6A1-A3D8-4A57-977C-896220E8748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11BA-CB21-41C9-8327-3D7D24560E21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31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432B-BFC2-49D6-B0D8-6F3ECF3EEAF8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7B6E-E2B2-49AE-88B4-82EA28E5100D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31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7007-FF17-42AE-816E-A011165A8F5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A904-1B3A-4488-B533-9159D3665C44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31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C783-3FA3-4002-A3E6-1C84B1E8AE0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FEB7-967B-4417-8790-68178F3C18CC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31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3331-5CC6-401D-A0FC-B72B845A6BFD}" type="slidenum">
              <a:rPr b="0" lang="hu-H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Csoportba foglalás 6"/>
          <p:cNvGrpSpPr/>
          <p:nvPr/>
        </p:nvGrpSpPr>
        <p:grpSpPr>
          <a:xfrm>
            <a:off x="7981920" y="76320"/>
            <a:ext cx="1079640" cy="1081080"/>
            <a:chOff x="7981920" y="76320"/>
            <a:chExt cx="1079640" cy="1081080"/>
          </a:xfrm>
        </p:grpSpPr>
        <p:sp>
          <p:nvSpPr>
            <p:cNvPr id="83" name="Ellipszis 7"/>
            <p:cNvSpPr/>
            <p:nvPr/>
          </p:nvSpPr>
          <p:spPr>
            <a:xfrm>
              <a:off x="7981920" y="76320"/>
              <a:ext cx="1079640" cy="1081080"/>
            </a:xfrm>
            <a:prstGeom prst="ellipse">
              <a:avLst/>
            </a:prstGeom>
            <a:solidFill>
              <a:srgbClr val="cd5523"/>
            </a:solidFill>
            <a:ln w="25560">
              <a:solidFill>
                <a:srgbClr val="cd5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Kép 7" descr="blogo.png"/>
            <p:cNvPicPr/>
            <p:nvPr/>
          </p:nvPicPr>
          <p:blipFill>
            <a:blip r:embed="rId2"/>
            <a:stretch/>
          </p:blipFill>
          <p:spPr>
            <a:xfrm>
              <a:off x="8334000" y="256680"/>
              <a:ext cx="375120" cy="72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4346-3EC9-4A5E-A57F-7397659C1334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31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4047-28D7-47A9-9A61-4DEF356E612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1D56-CA3D-4D14-A6A1-FC1B2E1197B9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31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5B4A-4374-4513-8E0D-222AB7EA4B0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B3E3-DAC0-45A0-B171-DE46A4533A34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31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06AE-0FDD-4365-B00A-250FCB9BB52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ADCC-AE32-40EB-A6AE-7765D87F905D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31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65C3-0C55-4A2D-B089-A00F3A7D4ED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DF87-371D-4D1E-91DD-550EE79403BA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31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F56A-536C-4C80-8F26-CCD446B90118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4676-B18D-43EF-8DD8-A4379267E96B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31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0694-AA66-42B8-9380-BCA38447336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DE11-E94A-41F5-BD72-8B7F1D43E4BF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31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8FA2-2968-4D0C-BF16-1348A384D6CA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3809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497" name="Egyenes összekötő 5"/>
          <p:cNvSpPr/>
          <p:nvPr/>
        </p:nvSpPr>
        <p:spPr>
          <a:xfrm>
            <a:off x="0" y="3224160"/>
            <a:ext cx="9144000" cy="0"/>
          </a:xfrm>
          <a:prstGeom prst="line">
            <a:avLst/>
          </a:prstGeom>
          <a:ln w="114480">
            <a:solidFill>
              <a:srgbClr val="cd5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zövegdoboz 6"/>
          <p:cNvSpPr/>
          <p:nvPr/>
        </p:nvSpPr>
        <p:spPr>
          <a:xfrm>
            <a:off x="2643120" y="2143080"/>
            <a:ext cx="621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0" spc="-1" strike="noStrike">
                <a:solidFill>
                  <a:srgbClr val="cd5523"/>
                </a:solidFill>
                <a:latin typeface="Arial"/>
              </a:rPr>
              <a:t>Bunsen-ég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Csoportba foglalás 7"/>
          <p:cNvGrpSpPr/>
          <p:nvPr/>
        </p:nvGrpSpPr>
        <p:grpSpPr>
          <a:xfrm>
            <a:off x="428760" y="2143080"/>
            <a:ext cx="2160360" cy="2160720"/>
            <a:chOff x="428760" y="2143080"/>
            <a:chExt cx="2160360" cy="2160720"/>
          </a:xfrm>
        </p:grpSpPr>
        <p:sp>
          <p:nvSpPr>
            <p:cNvPr id="500" name="Ellipszis 3"/>
            <p:cNvSpPr/>
            <p:nvPr/>
          </p:nvSpPr>
          <p:spPr>
            <a:xfrm>
              <a:off x="428760" y="2143080"/>
              <a:ext cx="2160360" cy="2160720"/>
            </a:xfrm>
            <a:prstGeom prst="ellipse">
              <a:avLst/>
            </a:prstGeom>
            <a:solidFill>
              <a:srgbClr val="cd5523"/>
            </a:solidFill>
            <a:ln w="25560">
              <a:solidFill>
                <a:srgbClr val="cd5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1" name="Kép 7" descr="blogo.png"/>
            <p:cNvPicPr/>
            <p:nvPr/>
          </p:nvPicPr>
          <p:blipFill>
            <a:blip r:embed="rId1"/>
            <a:stretch/>
          </p:blipFill>
          <p:spPr>
            <a:xfrm>
              <a:off x="1133640" y="2503440"/>
              <a:ext cx="750600" cy="14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Dia számának helye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8D45-E0B7-466A-B3AB-54BF4F4F879C}" type="slidenum">
              <a:rPr b="0" lang="hu-H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2" descr="szerkezet"/>
          <p:cNvPicPr/>
          <p:nvPr/>
        </p:nvPicPr>
        <p:blipFill>
          <a:blip r:embed="rId1"/>
          <a:stretch/>
        </p:blipFill>
        <p:spPr>
          <a:xfrm>
            <a:off x="1644480" y="2027160"/>
            <a:ext cx="2413080" cy="46594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2060"/>
                </a:solidFill>
                <a:latin typeface="Arial"/>
              </a:rPr>
              <a:t>Laboratóriumi melegítésre általában gázégőket használunk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2060"/>
                </a:solidFill>
                <a:latin typeface="Arial"/>
              </a:rPr>
              <a:t>Szerkeze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6" name="1. sz. felirat 7"/>
          <p:cNvSpPr/>
          <p:nvPr/>
        </p:nvSpPr>
        <p:spPr>
          <a:xfrm>
            <a:off x="4924440" y="3267000"/>
            <a:ext cx="2879640" cy="466920"/>
          </a:xfrm>
          <a:prstGeom prst="borderCallout1">
            <a:avLst>
              <a:gd name="adj1" fmla="val 18750"/>
              <a:gd name="adj2" fmla="val -8333"/>
              <a:gd name="adj3" fmla="val 100254"/>
              <a:gd name="adj4" fmla="val -82537"/>
            </a:avLst>
          </a:prstGeom>
          <a:solidFill>
            <a:srgbClr val="cd5523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8"/>
                </a:solidFill>
                <a:latin typeface="Arial"/>
              </a:rPr>
              <a:t>égőcs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. sz. felirat 8"/>
          <p:cNvSpPr/>
          <p:nvPr/>
        </p:nvSpPr>
        <p:spPr>
          <a:xfrm>
            <a:off x="4924440" y="3933720"/>
            <a:ext cx="2879640" cy="466920"/>
          </a:xfrm>
          <a:prstGeom prst="borderCallout1">
            <a:avLst>
              <a:gd name="adj1" fmla="val 18750"/>
              <a:gd name="adj2" fmla="val -8333"/>
              <a:gd name="adj3" fmla="val 271685"/>
              <a:gd name="adj4" fmla="val -80726"/>
            </a:avLst>
          </a:prstGeom>
          <a:solidFill>
            <a:srgbClr val="cd5523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8"/>
                </a:solidFill>
                <a:latin typeface="Arial"/>
              </a:rPr>
              <a:t>forgatható gyűr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1. sz. felirat 9"/>
          <p:cNvSpPr/>
          <p:nvPr/>
        </p:nvSpPr>
        <p:spPr>
          <a:xfrm>
            <a:off x="4924440" y="4619520"/>
            <a:ext cx="2879640" cy="466920"/>
          </a:xfrm>
          <a:prstGeom prst="borderCallout1">
            <a:avLst>
              <a:gd name="adj1" fmla="val 18750"/>
              <a:gd name="adj2" fmla="val -8333"/>
              <a:gd name="adj3" fmla="val 185967"/>
              <a:gd name="adj4" fmla="val -83120"/>
            </a:avLst>
          </a:prstGeom>
          <a:solidFill>
            <a:srgbClr val="cd5523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8"/>
                </a:solidFill>
                <a:latin typeface="Arial"/>
              </a:rPr>
              <a:t>gázfúvó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1. sz. felirat 10"/>
          <p:cNvSpPr/>
          <p:nvPr/>
        </p:nvSpPr>
        <p:spPr>
          <a:xfrm>
            <a:off x="4924440" y="5353200"/>
            <a:ext cx="2879640" cy="466560"/>
          </a:xfrm>
          <a:prstGeom prst="borderCallout1">
            <a:avLst>
              <a:gd name="adj1" fmla="val 18750"/>
              <a:gd name="adj2" fmla="val -8333"/>
              <a:gd name="adj3" fmla="val 90050"/>
              <a:gd name="adj4" fmla="val -82685"/>
            </a:avLst>
          </a:prstGeom>
          <a:solidFill>
            <a:srgbClr val="cd5523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8"/>
                </a:solidFill>
                <a:latin typeface="Arial"/>
              </a:rPr>
              <a:t>gázté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1. sz. felirat 11"/>
          <p:cNvSpPr/>
          <p:nvPr/>
        </p:nvSpPr>
        <p:spPr>
          <a:xfrm>
            <a:off x="4924440" y="6086520"/>
            <a:ext cx="2879640" cy="466560"/>
          </a:xfrm>
          <a:prstGeom prst="borderCallout1">
            <a:avLst>
              <a:gd name="adj1" fmla="val 18750"/>
              <a:gd name="adj2" fmla="val -8333"/>
              <a:gd name="adj3" fmla="val -38518"/>
              <a:gd name="adj4" fmla="val -46370"/>
            </a:avLst>
          </a:prstGeom>
          <a:solidFill>
            <a:srgbClr val="cd5523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8"/>
                </a:solidFill>
                <a:latin typeface="Arial"/>
              </a:rPr>
              <a:t>gázbevezető cs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ia számának helye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AD17-2A85-409E-BF1B-F405C73A7FA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2060"/>
                </a:solidFill>
                <a:latin typeface="Arial"/>
              </a:rPr>
              <a:t>Működési elv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2060"/>
                </a:solidFill>
                <a:latin typeface="Arial"/>
              </a:rPr>
              <a:t>Az égő fúvókáján át jut a gáz a csőbe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2060"/>
                </a:solidFill>
                <a:latin typeface="Arial"/>
              </a:rPr>
              <a:t>A fúvókán két egymással szemben lévő levegőző nyílás van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2060"/>
                </a:solidFill>
                <a:latin typeface="Arial"/>
              </a:rPr>
              <a:t>A lyukakat nyílással ellátott gyűrű elforgatásával zárhatjuk vagy nyithatjuk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2060"/>
                </a:solidFill>
                <a:latin typeface="Arial"/>
              </a:rPr>
              <a:t>Ha a levegőző nyílásokat elzárjuk, a gáz a cső végén világító és kormozó lánggal ég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4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E340-77AB-4C91-9A06-102ACD993D6A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2060"/>
                </a:solidFill>
                <a:latin typeface="Arial"/>
              </a:rPr>
              <a:t>Alkalmazás: sók lángfestése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16" name="Tartalom helye 5" descr="litium.png"/>
          <p:cNvPicPr/>
          <p:nvPr/>
        </p:nvPicPr>
        <p:blipFill>
          <a:blip r:embed="rId1"/>
          <a:stretch/>
        </p:blipFill>
        <p:spPr>
          <a:xfrm>
            <a:off x="571680" y="190512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517" name="Kép 8" descr="natrium.png"/>
          <p:cNvPicPr/>
          <p:nvPr/>
        </p:nvPicPr>
        <p:blipFill>
          <a:blip r:embed="rId2"/>
          <a:stretch/>
        </p:blipFill>
        <p:spPr>
          <a:xfrm>
            <a:off x="3429000" y="190512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518" name="Kép 9" descr="kalium.png"/>
          <p:cNvPicPr/>
          <p:nvPr/>
        </p:nvPicPr>
        <p:blipFill>
          <a:blip r:embed="rId3"/>
          <a:stretch/>
        </p:blipFill>
        <p:spPr>
          <a:xfrm>
            <a:off x="6286680" y="19051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519" name="Szövegdoboz 10"/>
          <p:cNvSpPr/>
          <p:nvPr/>
        </p:nvSpPr>
        <p:spPr>
          <a:xfrm>
            <a:off x="800280" y="53625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2060"/>
                </a:solidFill>
                <a:latin typeface="Arial"/>
              </a:rPr>
              <a:t>lí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zövegdoboz 11"/>
          <p:cNvSpPr/>
          <p:nvPr/>
        </p:nvSpPr>
        <p:spPr>
          <a:xfrm>
            <a:off x="3657600" y="53625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2060"/>
                </a:solidFill>
                <a:latin typeface="Arial"/>
              </a:rPr>
              <a:t>ná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zövegdoboz 12"/>
          <p:cNvSpPr/>
          <p:nvPr/>
        </p:nvSpPr>
        <p:spPr>
          <a:xfrm>
            <a:off x="6515280" y="53625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2060"/>
                </a:solidFill>
                <a:latin typeface="Arial"/>
              </a:rPr>
              <a:t>kál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Dia számának helye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B337-F75B-4EF9-A249-FC15D5473248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5:50:27Z</dcterms:created>
  <dc:creator>Oktatási Hivatal</dc:creator>
  <dc:description/>
  <dc:language>en-US</dc:language>
  <cp:lastModifiedBy>Oktatási Hivatal</cp:lastModifiedBy>
  <dcterms:modified xsi:type="dcterms:W3CDTF">2010-02-14T17:54:45Z</dcterms:modified>
  <cp:revision>67</cp:revision>
  <dc:subject/>
  <dc:title>Bunsen</dc:title>
</cp:coreProperties>
</file>