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DE8-A753-4739-AA15-495F9C12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BD7-6059-4947-B4C1-A6CAA888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A56-CF73-40CC-B8DF-C51702A3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A3F-DA8D-4ED4-9815-EF3A9596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62D-CF16-4505-B56B-C900905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AE1-7691-4BB2-AF5D-D460625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39E-E9BB-4FDD-AA75-A262D24E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5A6-5941-40B6-B585-B023FC46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3C0-1DEE-4021-ACB9-5321404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5D4-D731-4D55-974F-C092BEE7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B79-88E5-41A0-887E-252AC26F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6A2-00AD-4F94-A423-2D58123E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4EBA-2C12-4747-8EAD-19936171CD9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900" spc="-1" strike="noStrike">
                <a:solidFill>
                  <a:srgbClr val="000000"/>
                </a:solidFill>
                <a:latin typeface="Times New Roman"/>
              </a:rPr>
              <a:t>Víruso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Kanyaró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Mumpsz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Rubeol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900" spc="-1" strike="noStrike">
                <a:solidFill>
                  <a:srgbClr val="000000"/>
                </a:solidFill>
                <a:latin typeface="Times New Roman"/>
              </a:rPr>
              <a:t>Kanyaró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kanyaró (morbilli), nyálcseppekkel terjedő, vírus okozta fertőző betegség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lappangási idő után láz, köhögés, hurut és kötőhártya gyulladás a kezdeti tünetek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Pár nap múlva a fül mögött, majd az egész testen végigvonuló kiütések lépnek fel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kciógomb: Egyéni 3"/>
          <p:cNvSpPr/>
          <p:nvPr/>
        </p:nvSpPr>
        <p:spPr>
          <a:xfrm>
            <a:off x="720720" y="6119640"/>
            <a:ext cx="1258920" cy="540000"/>
          </a:xfrm>
          <a:custGeom>
            <a:avLst/>
            <a:gdLst>
              <a:gd name="textAreaLeft" fmla="*/ 34920 w 1258920"/>
              <a:gd name="textAreaRight" fmla="*/ 1224000 w 125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48938" y="1400"/>
                </a:lnTo>
                <a:lnTo>
                  <a:pt x="1400" y="140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48938" y="20200"/>
                </a:lnTo>
                <a:lnTo>
                  <a:pt x="48938" y="140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8" y="202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900" spc="-1" strike="noStrike">
                <a:solidFill>
                  <a:srgbClr val="000000"/>
                </a:solidFill>
                <a:latin typeface="Times New Roman"/>
              </a:rPr>
              <a:t>Mumpsz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mumpsz vírusos fertőző betegség, mely cseppfertőzéssel vihető át egyik emberről a másikra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lappangási idő után lázzal és az egyik, majd a másik oldali nyálmirigyek duzzanatával jár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kciógomb: Egyéni 4"/>
          <p:cNvSpPr/>
          <p:nvPr/>
        </p:nvSpPr>
        <p:spPr>
          <a:xfrm>
            <a:off x="720720" y="6119640"/>
            <a:ext cx="1258920" cy="540000"/>
          </a:xfrm>
          <a:custGeom>
            <a:avLst/>
            <a:gdLst>
              <a:gd name="textAreaLeft" fmla="*/ 34920 w 1258920"/>
              <a:gd name="textAreaRight" fmla="*/ 1224000 w 125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48938" y="1400"/>
                </a:lnTo>
                <a:lnTo>
                  <a:pt x="1400" y="140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48938" y="20200"/>
                </a:lnTo>
                <a:lnTo>
                  <a:pt x="48938" y="140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8" y="202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900" spc="-1" strike="noStrike">
                <a:solidFill>
                  <a:srgbClr val="000000"/>
                </a:solidFill>
                <a:latin typeface="Times New Roman"/>
              </a:rPr>
              <a:t>Rubeol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A rózsahimlő (rubeola), vírusos fertőző betegség, amely cseppfertőzéssel terjed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Gyermekeknél enyhe betegségként zajlik, láz, apró kiütések és tarkótáji nyirokcsomó-duzzanat formájában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000000"/>
                </a:solidFill>
                <a:latin typeface="Times New Roman"/>
              </a:rPr>
              <a:t>Felnőtteknél ízületi gyulladás lehet a kísérő tüne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kciógomb: Egyéni 3"/>
          <p:cNvSpPr/>
          <p:nvPr/>
        </p:nvSpPr>
        <p:spPr>
          <a:xfrm>
            <a:off x="720720" y="6119640"/>
            <a:ext cx="1258920" cy="540000"/>
          </a:xfrm>
          <a:custGeom>
            <a:avLst/>
            <a:gdLst>
              <a:gd name="textAreaLeft" fmla="*/ 34920 w 1258920"/>
              <a:gd name="textAreaRight" fmla="*/ 1224000 w 125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50338" h="21600">
                <a:moveTo>
                  <a:pt x="0" y="0"/>
                </a:moveTo>
                <a:lnTo>
                  <a:pt x="50338" y="0"/>
                </a:lnTo>
                <a:lnTo>
                  <a:pt x="50338" y="21600"/>
                </a:lnTo>
                <a:lnTo>
                  <a:pt x="0" y="21600"/>
                </a:lnTo>
                <a:close/>
              </a:path>
              <a:path fill="lightenLess" w="50338" h="21600">
                <a:moveTo>
                  <a:pt x="0" y="0"/>
                </a:moveTo>
                <a:lnTo>
                  <a:pt x="50338" y="0"/>
                </a:lnTo>
                <a:lnTo>
                  <a:pt x="48938" y="1400"/>
                </a:lnTo>
                <a:lnTo>
                  <a:pt x="1400" y="1400"/>
                </a:lnTo>
                <a:close/>
              </a:path>
              <a:path fill="darken" w="50338" h="21600">
                <a:moveTo>
                  <a:pt x="50338" y="0"/>
                </a:moveTo>
                <a:lnTo>
                  <a:pt x="50338" y="21600"/>
                </a:lnTo>
                <a:lnTo>
                  <a:pt x="48938" y="20200"/>
                </a:lnTo>
                <a:lnTo>
                  <a:pt x="48938" y="1400"/>
                </a:lnTo>
                <a:close/>
              </a:path>
              <a:path fill="darkenLess" w="50338" h="21600">
                <a:moveTo>
                  <a:pt x="5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8" y="20200"/>
                </a:lnTo>
                <a:close/>
              </a:path>
              <a:path fill="lighten" w="5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29:09Z</dcterms:created>
  <dc:creator>Oktatási Hivatal</dc:creator>
  <dc:description/>
  <dc:language>en-US</dc:language>
  <cp:lastModifiedBy>Oktatási Hivatal</cp:lastModifiedBy>
  <dcterms:modified xsi:type="dcterms:W3CDTF">2010-05-25T09:34:05Z</dcterms:modified>
  <cp:revision>32</cp:revision>
  <dc:subject/>
  <dc:title>Védőoltások</dc:title>
</cp:coreProperties>
</file>