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0AF7-9CD7-46BE-8BAB-EAB7022D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8FA-2B3C-42FA-BE83-C1EE8311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71E-7714-4C89-B7C8-668C022E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EDD1-9E4F-4900-A350-0AB29A7D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DD2D-1BE2-4739-B579-14415CAA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8E1A-0382-4F91-9CF6-0C726CB5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9B45-1A86-46C2-96A2-EAF5B1E6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C77-B29A-438D-8B55-BDE8B998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983-F1AF-41A0-BB19-840A2532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B996-86BF-4A3A-A1B3-5892C6B1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0C97-CEEA-42B5-AB80-45F4E4D1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93C1-F2BD-4C0A-80A8-7723762B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27AD-E9A2-46F4-85CB-9EF9C9CFB959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80"/>
                </a:solidFill>
                <a:latin typeface="Arial"/>
              </a:rPr>
              <a:t>TANGRAM</a:t>
            </a:r>
            <a:endParaRPr b="0" lang="en-US" sz="60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5146560"/>
            <a:ext cx="1925640" cy="1702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207200" y="5146560"/>
            <a:ext cx="1925640" cy="1702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Ősi kínai kirakójáték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80"/>
                </a:solidFill>
                <a:latin typeface="Arial"/>
              </a:rPr>
              <a:t>A tangram részei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67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80"/>
                </a:solidFill>
                <a:latin typeface="Arial"/>
              </a:rPr>
              <a:t>A tangram 7 db síkidomból áll: </a:t>
            </a: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80"/>
                </a:solidFill>
                <a:latin typeface="Arial"/>
              </a:rPr>
              <a:t>2 db kis,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80"/>
                </a:solidFill>
                <a:latin typeface="Arial"/>
              </a:rPr>
              <a:t>1 db közepes,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80"/>
                </a:solidFill>
                <a:latin typeface="Arial"/>
              </a:rPr>
              <a:t>2 db nagy háromszög,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80"/>
                </a:solidFill>
                <a:latin typeface="Arial"/>
              </a:rPr>
              <a:t>1 db négyzet,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80"/>
                </a:solidFill>
                <a:latin typeface="Arial"/>
              </a:rPr>
              <a:t>1 db paralelogramm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291280" y="3429000"/>
            <a:ext cx="3238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80"/>
                </a:solidFill>
                <a:latin typeface="Arial"/>
              </a:rPr>
              <a:t>A tangramozás szabályai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Egy-egy alakzat kirakásához mind a hét lapot fel kell használni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 lapokat egymás mellé kell helyezni, nem takarhatják egymást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23880" y="3492360"/>
            <a:ext cx="3266280" cy="3265200"/>
            <a:chOff x="623880" y="3492360"/>
            <a:chExt cx="3266280" cy="326520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 rot="16200000">
              <a:off x="618840" y="4686120"/>
              <a:ext cx="140040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1311120" y="3992400"/>
              <a:ext cx="70488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 rot="8097600">
              <a:off x="1165320" y="3638160"/>
              <a:ext cx="70488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 rot="2692200">
              <a:off x="2793600" y="3728880"/>
              <a:ext cx="704880" cy="14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 rot="10800000">
              <a:off x="2004480" y="4677840"/>
              <a:ext cx="139068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6"/>
            <a:stretch/>
          </p:blipFill>
          <p:spPr>
            <a:xfrm flipH="1" rot="10800000">
              <a:off x="2004840" y="5357520"/>
              <a:ext cx="704880" cy="14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7"/>
            <a:stretch/>
          </p:blipFill>
          <p:spPr>
            <a:xfrm rot="8116200">
              <a:off x="1155240" y="5709960"/>
              <a:ext cx="714600" cy="70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6630840" y="5052960"/>
            <a:ext cx="2238480" cy="1657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4449600" y="4168800"/>
            <a:ext cx="17240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6:20:13Z</dcterms:created>
  <dc:creator/>
  <dc:description/>
  <dc:language>en-US</dc:language>
  <cp:lastModifiedBy>OKÉV</cp:lastModifiedBy>
  <dcterms:modified xsi:type="dcterms:W3CDTF">2007-06-19T19:30:29Z</dcterms:modified>
  <cp:revision>8</cp:revision>
  <dc:subject/>
  <dc:title>Tangram</dc:title>
</cp:coreProperties>
</file>