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a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8613-5970-421E-97F1-90DC9A8E7CAE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323D-FA5B-4371-A869-A1D0B993802D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FFD1-E33A-4C4C-8A0C-315C44416451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BB0-07FC-439E-992E-5C8A632DB9CF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CEE-DF8C-4539-84FD-A2595278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BCB-DDA7-4F39-9B27-98406B88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1C1-0949-46B0-BCAD-F75CF7BD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846-9698-4C79-BE96-D38C7332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D4A-1DF6-45A9-AD13-ABBFC2CD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861-0629-42D5-8F08-9A64B39B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3D0-4EFB-441C-B072-A408C827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6E0-8498-4354-90DD-13133FBB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B6D-7C4E-4132-BD3E-B44DC3AE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6F1-ABC2-413A-996B-C7935C81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0B4-FBDF-4C1A-989D-ADD1A0A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7F6-EC9A-4A7E-AFCC-408F5C0A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a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bfba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C2B4-F61D-46E8-8021-9C1AF81B0C05}" type="datetime">
              <a:rPr b="0" lang="hu-HU" sz="1200" spc="-1" strike="noStrike">
                <a:solidFill>
                  <a:srgbClr val="fbfbaa"/>
                </a:solidFill>
                <a:latin typeface="Arial"/>
              </a:rPr>
              <a:t>26.07.29.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bfba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D92A-9862-4896-B455-4668CC3EF79F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afa7d"/>
                </a:solidFill>
                <a:latin typeface="Arial"/>
              </a:rPr>
              <a:t>Tények a tojásról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fbfbaa"/>
              </a:solidFill>
              <a:latin typeface="Arial"/>
            </a:endParaRPr>
          </a:p>
        </p:txBody>
      </p:sp>
      <p:sp>
        <p:nvSpPr>
          <p:cNvPr id="50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55DA-3DF0-4DFE-B26E-6CCE1FB2E979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  <p:pic>
        <p:nvPicPr>
          <p:cNvPr id="51" name="Kép 4" descr="hej.png"/>
          <p:cNvPicPr/>
          <p:nvPr/>
        </p:nvPicPr>
        <p:blipFill>
          <a:blip r:embed="rId1"/>
          <a:stretch/>
        </p:blipFill>
        <p:spPr>
          <a:xfrm>
            <a:off x="75888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2" name="Kép 5" descr="hej.png"/>
          <p:cNvPicPr/>
          <p:nvPr/>
        </p:nvPicPr>
        <p:blipFill>
          <a:blip r:embed="rId2"/>
          <a:stretch/>
        </p:blipFill>
        <p:spPr>
          <a:xfrm>
            <a:off x="285588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3" name="Kép 6" descr="hej.png"/>
          <p:cNvPicPr/>
          <p:nvPr/>
        </p:nvPicPr>
        <p:blipFill>
          <a:blip r:embed="rId3"/>
          <a:stretch/>
        </p:blipFill>
        <p:spPr>
          <a:xfrm>
            <a:off x="495144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Kép 7" descr="hej.png"/>
          <p:cNvPicPr/>
          <p:nvPr/>
        </p:nvPicPr>
        <p:blipFill>
          <a:blip r:embed="rId4"/>
          <a:stretch/>
        </p:blipFill>
        <p:spPr>
          <a:xfrm>
            <a:off x="7048440" y="4214880"/>
            <a:ext cx="13366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4" descr="hej.png"/>
          <p:cNvPicPr/>
          <p:nvPr/>
        </p:nvPicPr>
        <p:blipFill>
          <a:blip r:embed="rId1"/>
          <a:stretch/>
        </p:blipFill>
        <p:spPr>
          <a:xfrm>
            <a:off x="214200" y="228600"/>
            <a:ext cx="4754520" cy="6400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fafa7d"/>
              </a:solidFill>
              <a:latin typeface="Arial"/>
            </a:endParaRPr>
          </a:p>
        </p:txBody>
      </p:sp>
      <p:pic>
        <p:nvPicPr>
          <p:cNvPr id="57" name="Tartalom helye 3" descr="feherje.png"/>
          <p:cNvPicPr/>
          <p:nvPr/>
        </p:nvPicPr>
        <p:blipFill>
          <a:blip r:embed="rId2"/>
          <a:stretch/>
        </p:blipFill>
        <p:spPr>
          <a:xfrm>
            <a:off x="328680" y="343080"/>
            <a:ext cx="4525920" cy="6172200"/>
          </a:xfrm>
          <a:prstGeom prst="rect">
            <a:avLst/>
          </a:prstGeom>
          <a:ln w="0">
            <a:noFill/>
          </a:ln>
        </p:spPr>
      </p:pic>
      <p:pic>
        <p:nvPicPr>
          <p:cNvPr id="58" name="Kép 5" descr="sargaja.png"/>
          <p:cNvPicPr/>
          <p:nvPr/>
        </p:nvPicPr>
        <p:blipFill>
          <a:blip r:embed="rId3"/>
          <a:stretch/>
        </p:blipFill>
        <p:spPr>
          <a:xfrm>
            <a:off x="1357200" y="2500200"/>
            <a:ext cx="2652840" cy="2652840"/>
          </a:xfrm>
          <a:prstGeom prst="rect">
            <a:avLst/>
          </a:prstGeom>
          <a:ln w="0">
            <a:noFill/>
          </a:ln>
        </p:spPr>
      </p:pic>
      <p:sp>
        <p:nvSpPr>
          <p:cNvPr id="59" name="Téglalap feliratnak 6"/>
          <p:cNvSpPr/>
          <p:nvPr/>
        </p:nvSpPr>
        <p:spPr>
          <a:xfrm>
            <a:off x="5286240" y="1214280"/>
            <a:ext cx="2880000" cy="1079640"/>
          </a:xfrm>
          <a:prstGeom prst="wedgeRectCallout">
            <a:avLst>
              <a:gd name="adj1" fmla="val -82819"/>
              <a:gd name="adj2" fmla="val -13097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Mészhéj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0" name="Téglalap feliratnak 7"/>
          <p:cNvSpPr/>
          <p:nvPr/>
        </p:nvSpPr>
        <p:spPr>
          <a:xfrm>
            <a:off x="5357880" y="3000240"/>
            <a:ext cx="2879640" cy="1079640"/>
          </a:xfrm>
          <a:prstGeom prst="wedgeRectCallout">
            <a:avLst>
              <a:gd name="adj1" fmla="val -95671"/>
              <a:gd name="adj2" fmla="val -19143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Fehérje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1" name="Téglalap feliratnak 8"/>
          <p:cNvSpPr/>
          <p:nvPr/>
        </p:nvSpPr>
        <p:spPr>
          <a:xfrm>
            <a:off x="5429160" y="5143680"/>
            <a:ext cx="2879640" cy="1079280"/>
          </a:xfrm>
          <a:prstGeom prst="wedgeRectCallout">
            <a:avLst>
              <a:gd name="adj1" fmla="val -123263"/>
              <a:gd name="adj2" fmla="val -135055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Sárgája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2" name="Dia számának hely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3DF2-9F11-472B-A6C6-E86DDD19749B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274320"/>
            <a:ext cx="864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afa7d"/>
                </a:solidFill>
                <a:latin typeface="Arial"/>
              </a:rPr>
              <a:t>Az átlagos tyúktojás összetétele: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3139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Tápanyag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Vitamin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Ásványi anyag 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5,4 gramm fehérje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4,8 gramm zsír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0,3 gramm szénhidrát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A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D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E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B-vitaminok,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folsav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pantoténsav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foszfor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vas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cink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kalc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kál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nátr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szelén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magnéz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1EB4-3146-4403-A14D-16D73202C5B7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8:44:31Z</dcterms:created>
  <dc:creator>OH</dc:creator>
  <dc:description/>
  <dc:language>en-US</dc:language>
  <cp:lastModifiedBy>Oktatási Hivatal</cp:lastModifiedBy>
  <dcterms:modified xsi:type="dcterms:W3CDTF">2009-01-20T20:26:55Z</dcterms:modified>
  <cp:revision>17</cp:revision>
  <dc:subject/>
  <dc:title>1. dia</dc:title>
</cp:coreProperties>
</file>